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10.wmf" ContentType="image/x-wmf"/>
  <Override PartName="/ppt/media/image23.png" ContentType="image/png"/>
  <Override PartName="/ppt/media/image22.wmf" ContentType="image/x-wmf"/>
  <Override PartName="/ppt/media/image5.wmf" ContentType="image/x-wmf"/>
  <Override PartName="/ppt/media/image21.wmf" ContentType="image/x-wmf"/>
  <Override PartName="/ppt/media/image4.wmf" ContentType="image/x-wmf"/>
  <Override PartName="/ppt/media/image19.png" ContentType="image/png"/>
  <Override PartName="/ppt/media/image18.wmf" ContentType="image/x-wmf"/>
  <Override PartName="/ppt/media/image20.wmf" ContentType="image/x-wmf"/>
  <Override PartName="/ppt/media/image17.wmf" ContentType="image/x-wmf"/>
  <Override PartName="/ppt/media/image16.png" ContentType="image/png"/>
  <Override PartName="/ppt/media/image1.jpeg" ContentType="image/jpeg"/>
  <Override PartName="/ppt/media/image15.wmf" ContentType="image/x-wmf"/>
  <Override PartName="/ppt/media/image2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60302-6CF2-40F5-815B-D6924EF2E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42D81-F525-4755-8E6A-65C56FD6D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A6735-2BEF-4A7C-86F0-33F23A8D7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AC2AD-9F29-4C8A-BF7D-F420EFA97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5AC26-68C7-491F-AEEB-82962DE27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8862D-2B98-4AB9-B410-39996AB7A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EA8CD-2251-4DC7-A8C8-164960AD8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1D877-6792-43CF-B543-AB342127F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348E6-953A-49C7-89E2-0C5B821B4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ADAC8-8FF6-4FCA-A32F-1B165BD9F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7930F-225E-4937-9B63-9A8ED94E4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48C60-AB41-441B-A5F1-A9922349E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BB2C7-C69F-459B-BDA7-3CEF8C64E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A3F48-F7C3-4760-9B81-92F902CA0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EC1D6-8F67-4355-80C1-63AFCAD75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6E7F5-A84C-4EBF-8D53-5889FBA98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BF0D0-0138-4C8F-BB21-46CC25785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ACEA29E-A271-4331-85FE-D10598ABA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6C034F6-DC10-4C05-A60F-BCA293A70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3CEB768-31BD-40E7-8F73-960583060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5F76D60-4B2D-47F9-B895-50E48CE1B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C376303-C1F2-417E-9680-D56B17DB0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8FCCF-2154-4DD0-BE3B-E34317301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640600-4523-4200-88A0-9D7CBD1C1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8C35663-B372-4EC4-A69E-F7852CE5A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E5A3E7B-AE22-4F0C-88D8-FFC069EC0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77B41BE-6399-480E-8579-50C33DC74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52F5DD0-61AC-4560-A218-BE42448D6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19B5802-7DC4-4099-AECF-952647F2F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B82BC49-DB01-4AC2-BE05-CFD03FE37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ECA00E-8DCC-4877-B924-B7DF84EE9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E95D84-F658-4EA0-81C6-B2C8FF970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3A2E6D-9A1B-4F29-B706-165EDEDD3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861EF-1963-45F6-B70D-A02892C7E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BB50F0-C1B6-43DE-B146-390C8DF2B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5AA305-674A-4965-9FEC-CCD584C85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CEF364-361E-4C3B-A684-5B29CD3E1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A08449-D89B-44D1-8C6D-0DB6B668D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BB2255-BC87-47EB-9555-FCB83BE46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CEC031-34E8-47F5-9BD0-5EFF6E9B4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56DC25-B2AD-42A9-A9E4-965AF8B71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0B30C2-B2A0-44ED-8F52-04E261729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F5D3EE-D2D7-4A10-AD91-EF3F2CC5D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011B5F-56FD-466E-8DC1-436CAEC72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8BB10-7876-40D3-8375-3E9250BCE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7A0CA1-7C3F-482B-94B4-1D65A0D8F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A54746-B7C7-44A9-854A-85AB9E679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195A53-E4D9-451A-BBE4-1332E7BE4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408631-7A2D-4EB4-B29D-D06786C09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95B58F-86FD-4EC9-BE64-CFEB2BDF2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6D26F3-1021-4B2D-AEFF-5CF7FAE38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2E240A-EECD-4673-AEC5-A8CCAF8F7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6DDA00-A970-4171-8AEE-2A6C6A6D3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D62893-044B-4375-931C-5F5FF5A6C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DE4151-E561-4C53-8A25-29FBDC7FD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7948B-D68C-415E-A9CE-9183A75B6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11B9C4-9572-47D4-B6DA-6D3FAF914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8694DD-7EB7-4093-82FA-0FE9023F6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8FBEA1-E714-4C25-BCB5-4094C8679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A2A8B4-817C-4CF1-ADCC-9768DD2FF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DC7CCE-4B3C-4FB3-A74E-6817B6905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E3D975-23F5-4B81-B9C6-1DF325257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6B9BFC-197C-4EE1-8683-C5C4A84ED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732F16-0B9E-40FD-924D-B463C78F9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7F6462-650E-4628-98B7-94EAB3066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ADF19D-2606-48F3-B19A-678E0DD4F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DCC3B-FC89-4DD9-A6FF-56FC097BE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EF23E8-551A-4BA5-BE23-149123AAE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F36992-523D-4D13-847F-D260EECB4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C2014C-FE43-4FCB-97DD-CECBFB54D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58C1A3-309E-491C-91D9-AF139ED61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9512E8-EDA0-4FF7-89B2-A589BDE41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570FE2-A49E-4189-8A21-856B5A3D9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021590-1CC4-4240-A26E-ED3F663B0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691A80-AB6B-40B5-9D8A-2EF0C79A6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1A20B2-F106-48F2-80AF-29C53AC16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FC8485-F4CC-460C-9FB6-CADAD1A15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DE88B-35C3-4298-AD03-338C43FFB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130828-CD29-4B43-AA3C-D8B015B84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404DEC-725E-43C7-8B9B-AE2CBC186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3A886B-A890-416C-BBB8-2BE986079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98DFC7-38F4-47E9-912D-654FA617E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11110C-C4A9-46D3-9C94-37C5C7FF8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2BF6C69-41E0-464F-8236-B54A51FB2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F78DEF2-71E1-4BD8-87DB-DCF6BF96E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9D1F7EF-56A1-4BF7-B211-5CF8B42AF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B961E1D-0A68-422F-8618-2A8DAED1D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745BD81-4964-4C3B-8778-A8B8194F9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ED59A-7AEF-4362-BAD1-1428EFE95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82A3C8E-9364-4F6C-B275-F0CB22DE6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DCE8CC2-4D88-4742-96C8-95D0B696C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36E156A-4D3A-4C42-9A84-2F413C6BF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4939EA2-4BD9-4CE1-A11C-22F8E1B6D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7C91F02-C3B2-4BA6-85B7-C23406678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96BA762-175E-4A1C-9D14-703F63281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34EBF33-ED8A-4F53-AE65-5FD177E65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1D874-9750-4F89-94C0-155B81E08903}" type="slidenum">
              <a:rPr b="0" lang="zh-TW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3E623-DC90-46F2-B958-8A3BB8112636}" type="slidenum">
              <a:rPr b="0" lang="zh-TW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ldNum" idx="8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68995-3432-4C9B-A031-32FAEC3A1655}" type="slidenum">
              <a:rPr b="0" lang="zh-TW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58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59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6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9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206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207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12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dt" idx="10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ftr" idx="11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2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08AC2-A7FE-4840-A12D-01C5562B3F42}" type="slidenum">
              <a:rPr b="0" lang="zh-TW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4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255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56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 type="dt" idx="13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 type="sldNum" idx="15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F4A45-0039-463B-A760-CA58BEF3F957}" type="slidenum"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299" name="PlaceHolder 1"/>
          <p:cNvSpPr>
            <a:spLocks noGrp="1"/>
          </p:cNvSpPr>
          <p:nvPr>
            <p:ph type="dt" idx="16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 type="sldNum" idx="18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EC457-51ED-4CD2-8498-96A4A2522635}" type="slidenum"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9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340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2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344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45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346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1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52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353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918A3-C709-4162-BB34-570F1D270436}" type="slidenum">
              <a:rPr b="0" lang="zh-TW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0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01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4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05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06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407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12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4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 type="sldNum" idx="2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84BB1-84A0-48AB-93DF-9134E5F35E03}" type="slidenum">
              <a:rPr b="0" lang="zh-TW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 type="ftr" idx="2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1.wmf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3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" descr=""/>
          <p:cNvPicPr/>
          <p:nvPr/>
        </p:nvPicPr>
        <p:blipFill>
          <a:blip r:embed="rId1"/>
          <a:stretch/>
        </p:blipFill>
        <p:spPr>
          <a:xfrm>
            <a:off x="4211640" y="369720"/>
            <a:ext cx="4932360" cy="4932360"/>
          </a:xfrm>
          <a:prstGeom prst="rect">
            <a:avLst/>
          </a:prstGeom>
          <a:ln w="0">
            <a:noFill/>
          </a:ln>
        </p:spPr>
      </p:pic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68360" y="1267920"/>
            <a:ext cx="82296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Astronaut Jill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subTitle"/>
          </p:nvPr>
        </p:nvSpPr>
        <p:spPr>
          <a:xfrm>
            <a:off x="1403280" y="2924280"/>
            <a:ext cx="64008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ritten by Venus Ch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4" name="" descr=""/>
          <p:cNvPicPr/>
          <p:nvPr/>
        </p:nvPicPr>
        <p:blipFill>
          <a:blip r:embed="rId2"/>
          <a:stretch/>
        </p:blipFill>
        <p:spPr>
          <a:xfrm>
            <a:off x="0" y="3429000"/>
            <a:ext cx="2262240" cy="3429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68360" y="501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k, I can be your friend, would you like to show me around here?’ Jill replied.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496" name="" descr=""/>
          <p:cNvPicPr/>
          <p:nvPr/>
        </p:nvPicPr>
        <p:blipFill>
          <a:blip r:embed="rId2"/>
          <a:stretch/>
        </p:blipFill>
        <p:spPr>
          <a:xfrm>
            <a:off x="1835280" y="189000"/>
            <a:ext cx="4752720" cy="4514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755280" y="4221000"/>
            <a:ext cx="770724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‘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ure, you can jump to the hole and you will see different things.’ said Tom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498" name="" descr=""/>
          <p:cNvPicPr/>
          <p:nvPr/>
        </p:nvPicPr>
        <p:blipFill>
          <a:blip r:embed="rId1"/>
          <a:stretch/>
        </p:blipFill>
        <p:spPr>
          <a:xfrm>
            <a:off x="4643280" y="189000"/>
            <a:ext cx="4249800" cy="3986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3.23699E-006 L -0.24011 0.08717 E">
                                      <p:cBhvr>
                                        <p:cTn id="78" dur="500" fill="hold"/>
                                        <p:tgtEl>
                                          <p:spTgt spid="4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401 0.08717 L -0.36614 -0.29018 E">
                                      <p:cBhvr>
                                        <p:cTn id="81" dur="500" fill="hold"/>
                                        <p:tgtEl>
                                          <p:spTgt spid="4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6597 -0.28 L -0.41336 -0.01757 E">
                                      <p:cBhvr>
                                        <p:cTn id="84" dur="500" fill="hold"/>
                                        <p:tgtEl>
                                          <p:spTgt spid="4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3600"/>
          </a:xfrm>
          <a:prstGeom prst="rect">
            <a:avLst/>
          </a:prstGeom>
          <a:ln w="0">
            <a:noFill/>
          </a:ln>
        </p:spPr>
      </p:pic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250920" y="476280"/>
            <a:ext cx="868680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en Jill and Tom play happily, suddenly, a man shouts ‘Hey, Jill, it’s time to wake up, it will be very soon to arrive at moon, we must ready the things!’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501" name="" descr=""/>
          <p:cNvPicPr/>
          <p:nvPr/>
        </p:nvPicPr>
        <p:blipFill>
          <a:blip r:embed="rId2">
            <a:lum contrast="100000"/>
          </a:blip>
          <a:stretch/>
        </p:blipFill>
        <p:spPr>
          <a:xfrm>
            <a:off x="5219640" y="3141720"/>
            <a:ext cx="1559160" cy="371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11280" y="549360"/>
            <a:ext cx="822960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e5ff"/>
                </a:solidFill>
                <a:latin typeface="Arial"/>
              </a:rPr>
              <a:t>Oh! Jill was dreaming that he met an alien! ‘What a funny dream!’ he thought.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503" name="" descr=""/>
          <p:cNvPicPr/>
          <p:nvPr/>
        </p:nvPicPr>
        <p:blipFill>
          <a:blip r:embed="rId1"/>
          <a:stretch/>
        </p:blipFill>
        <p:spPr>
          <a:xfrm>
            <a:off x="2340000" y="2924280"/>
            <a:ext cx="3744720" cy="3444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" descr=""/>
          <p:cNvPicPr/>
          <p:nvPr/>
        </p:nvPicPr>
        <p:blipFill>
          <a:blip r:embed="rId1">
            <a:lum contrast="-8000"/>
          </a:blip>
          <a:stretch/>
        </p:blipFill>
        <p:spPr>
          <a:xfrm>
            <a:off x="1835280" y="836640"/>
            <a:ext cx="5402160" cy="5433840"/>
          </a:xfrm>
          <a:prstGeom prst="rect">
            <a:avLst/>
          </a:prstGeom>
          <a:ln w="0">
            <a:noFill/>
          </a:ln>
        </p:spPr>
      </p:pic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2484000" y="2923920"/>
            <a:ext cx="4321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-The end-</a:t>
            </a:r>
            <a:endParaRPr b="0" lang="en-US" sz="72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506" name="" descr=""/>
          <p:cNvPicPr/>
          <p:nvPr/>
        </p:nvPicPr>
        <p:blipFill>
          <a:blip r:embed="rId2"/>
          <a:srcRect l="0" t="0" r="87397" b="0"/>
          <a:stretch/>
        </p:blipFill>
        <p:spPr>
          <a:xfrm>
            <a:off x="0" y="6453360"/>
            <a:ext cx="398520" cy="40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2411280" y="1773360"/>
            <a:ext cx="6400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c0039"/>
                </a:solidFill>
                <a:latin typeface="Arial"/>
              </a:rPr>
              <a:t>‘</a:t>
            </a:r>
            <a:r>
              <a:rPr b="0" lang="en-US" sz="4000" spc="-1" strike="noStrike">
                <a:solidFill>
                  <a:srgbClr val="8c0039"/>
                </a:solidFill>
                <a:latin typeface="Arial"/>
              </a:rPr>
              <a:t>3,2,1,lift-off,go!’A man speaks to the intercom.</a:t>
            </a:r>
            <a:r>
              <a:rPr b="0" lang="en-US" sz="3200" spc="-1" strike="noStrike">
                <a:solidFill>
                  <a:srgbClr val="8c003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466" name="" descr=""/>
          <p:cNvPicPr/>
          <p:nvPr/>
        </p:nvPicPr>
        <p:blipFill>
          <a:blip r:embed="rId1"/>
          <a:stretch/>
        </p:blipFill>
        <p:spPr>
          <a:xfrm>
            <a:off x="6732720" y="3068640"/>
            <a:ext cx="1974600" cy="3789360"/>
          </a:xfrm>
          <a:prstGeom prst="rect">
            <a:avLst/>
          </a:prstGeom>
          <a:ln w="0">
            <a:noFill/>
          </a:ln>
        </p:spPr>
      </p:pic>
      <p:pic>
        <p:nvPicPr>
          <p:cNvPr id="467" name="" descr=""/>
          <p:cNvPicPr/>
          <p:nvPr/>
        </p:nvPicPr>
        <p:blipFill>
          <a:blip r:embed="rId2"/>
          <a:stretch/>
        </p:blipFill>
        <p:spPr>
          <a:xfrm>
            <a:off x="2340000" y="0"/>
            <a:ext cx="1727280" cy="1593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/>
          </p:nvPr>
        </p:nvSpPr>
        <p:spPr>
          <a:xfrm>
            <a:off x="394920" y="1196640"/>
            <a:ext cx="8280360" cy="23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Look! The rocket is ready for up to the sky and arrive at another planet, moon to complete a mission.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69" name="" descr=""/>
          <p:cNvPicPr/>
          <p:nvPr/>
        </p:nvPicPr>
        <p:blipFill>
          <a:blip r:embed="rId1"/>
          <a:stretch/>
        </p:blipFill>
        <p:spPr>
          <a:xfrm rot="21084000">
            <a:off x="394920" y="3951000"/>
            <a:ext cx="3009960" cy="2906640"/>
          </a:xfrm>
          <a:prstGeom prst="rect">
            <a:avLst/>
          </a:prstGeom>
          <a:ln w="0">
            <a:noFill/>
          </a:ln>
        </p:spPr>
      </p:pic>
      <p:pic>
        <p:nvPicPr>
          <p:cNvPr id="470" name="" descr=""/>
          <p:cNvPicPr/>
          <p:nvPr/>
        </p:nvPicPr>
        <p:blipFill>
          <a:blip r:embed="rId2"/>
          <a:stretch/>
        </p:blipFill>
        <p:spPr>
          <a:xfrm rot="19753800">
            <a:off x="7784640" y="163080"/>
            <a:ext cx="1060560" cy="1046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" dur="250" autoRev="1" fill="hold"/>
                                        <p:tgtEl>
                                          <p:spTgt spid="47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1" name="" descr=""/>
          <p:cNvPicPr/>
          <p:nvPr/>
        </p:nvPicPr>
        <p:blipFill>
          <a:blip r:embed="rId1"/>
          <a:stretch/>
        </p:blipFill>
        <p:spPr>
          <a:xfrm rot="3126600">
            <a:off x="5458680" y="4341960"/>
            <a:ext cx="2919240" cy="2533680"/>
          </a:xfrm>
          <a:prstGeom prst="rect">
            <a:avLst/>
          </a:prstGeom>
          <a:ln w="0">
            <a:noFill/>
          </a:ln>
        </p:spPr>
      </p:pic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74400" y="1412640"/>
            <a:ext cx="876924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fter a while, as the rocket fly above the moon closely , Suddenly ‘Boom!’ ‘What’s happen?’ said the astronaut who control the rocket ,Jill.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3" name=""/>
          <p:cNvSpPr/>
          <p:nvPr/>
        </p:nvSpPr>
        <p:spPr>
          <a:xfrm>
            <a:off x="3276720" y="5734080"/>
            <a:ext cx="2735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"/>
          <p:cNvSpPr txBox="1"/>
          <p:nvPr/>
        </p:nvSpPr>
        <p:spPr>
          <a:xfrm>
            <a:off x="5364000" y="5734080"/>
            <a:ext cx="1729080" cy="88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876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新細明體"/>
              </a:rPr>
              <a:t>Boom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新細明體"/>
              <a:ea typeface="新細明體"/>
            </a:endParaRPr>
          </a:p>
        </p:txBody>
      </p:sp>
      <p:sp>
        <p:nvSpPr>
          <p:cNvPr id="475" name=""/>
          <p:cNvSpPr txBox="1"/>
          <p:nvPr/>
        </p:nvSpPr>
        <p:spPr>
          <a:xfrm>
            <a:off x="5724360" y="4149720"/>
            <a:ext cx="12002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489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新細明體"/>
              </a:rPr>
              <a:t>Boom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新細明體"/>
              <a:ea typeface="新細明體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1337 0.01803 L -0.57952 -0.0763 E">
                                      <p:cBhvr>
                                        <p:cTn id="34" dur="2000" fill="hold"/>
                                        <p:tgtEl>
                                          <p:spTgt spid="4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/>
          </p:nvPr>
        </p:nvSpPr>
        <p:spPr>
          <a:xfrm>
            <a:off x="539280" y="4868640"/>
            <a:ext cx="860436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t seems something was wrong.’ he said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477" name="" descr=""/>
          <p:cNvPicPr/>
          <p:nvPr/>
        </p:nvPicPr>
        <p:blipFill>
          <a:blip r:embed="rId1"/>
          <a:stretch/>
        </p:blipFill>
        <p:spPr>
          <a:xfrm>
            <a:off x="1835280" y="404640"/>
            <a:ext cx="5329080" cy="3989520"/>
          </a:xfrm>
          <a:prstGeom prst="rect">
            <a:avLst/>
          </a:prstGeom>
          <a:ln w="0">
            <a:noFill/>
          </a:ln>
        </p:spPr>
      </p:pic>
      <p:pic>
        <p:nvPicPr>
          <p:cNvPr id="478" name="" descr=""/>
          <p:cNvPicPr/>
          <p:nvPr/>
        </p:nvPicPr>
        <p:blipFill>
          <a:blip r:embed="rId2"/>
          <a:stretch/>
        </p:blipFill>
        <p:spPr>
          <a:xfrm rot="3508200">
            <a:off x="6055920" y="3382560"/>
            <a:ext cx="569880" cy="662040"/>
          </a:xfrm>
          <a:prstGeom prst="rect">
            <a:avLst/>
          </a:prstGeom>
          <a:ln w="0">
            <a:noFill/>
          </a:ln>
        </p:spPr>
      </p:pic>
      <p:pic>
        <p:nvPicPr>
          <p:cNvPr id="479" name="" descr=""/>
          <p:cNvPicPr/>
          <p:nvPr/>
        </p:nvPicPr>
        <p:blipFill>
          <a:blip r:embed="rId3"/>
          <a:stretch/>
        </p:blipFill>
        <p:spPr>
          <a:xfrm rot="20706000">
            <a:off x="2268000" y="1628640"/>
            <a:ext cx="879480" cy="1020960"/>
          </a:xfrm>
          <a:prstGeom prst="rect">
            <a:avLst/>
          </a:prstGeom>
          <a:ln w="0">
            <a:noFill/>
          </a:ln>
        </p:spPr>
      </p:pic>
      <p:pic>
        <p:nvPicPr>
          <p:cNvPr id="480" name="" descr=""/>
          <p:cNvPicPr/>
          <p:nvPr/>
        </p:nvPicPr>
        <p:blipFill>
          <a:blip r:embed="rId4"/>
          <a:stretch/>
        </p:blipFill>
        <p:spPr>
          <a:xfrm rot="2172600">
            <a:off x="5508360" y="1052640"/>
            <a:ext cx="817560" cy="949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000"/>
                            </p:stCondLst>
                            <p:childTnLst>
                              <p:par>
                                <p:cTn id="4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/>
          </p:nvPr>
        </p:nvSpPr>
        <p:spPr>
          <a:xfrm>
            <a:off x="250920" y="4842000"/>
            <a:ext cx="835344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le he looks around that where is wrong, someone push him outside the rocket, Jill falls into the space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482" name="" descr=""/>
          <p:cNvPicPr/>
          <p:nvPr/>
        </p:nvPicPr>
        <p:blipFill>
          <a:blip r:embed="rId1"/>
          <a:stretch/>
        </p:blipFill>
        <p:spPr>
          <a:xfrm rot="17532000">
            <a:off x="2174040" y="497520"/>
            <a:ext cx="4176720" cy="4133880"/>
          </a:xfrm>
          <a:prstGeom prst="rect">
            <a:avLst/>
          </a:prstGeom>
          <a:ln w="0">
            <a:noFill/>
          </a:ln>
        </p:spPr>
      </p:pic>
      <p:sp>
        <p:nvSpPr>
          <p:cNvPr id="483" name=""/>
          <p:cNvSpPr/>
          <p:nvPr/>
        </p:nvSpPr>
        <p:spPr>
          <a:xfrm rot="1068000">
            <a:off x="178920" y="-1034640"/>
            <a:ext cx="8604360" cy="6769080"/>
          </a:xfrm>
          <a:prstGeom prst="irregularSeal2">
            <a:avLst/>
          </a:prstGeom>
          <a:solidFill>
            <a:srgbClr val="003399">
              <a:alpha val="13000"/>
            </a:srgbClr>
          </a:solid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5" dur="2000" fill="hold"/>
                                        <p:tgtEl>
                                          <p:spTgt spid="48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/>
          </p:nvPr>
        </p:nvSpPr>
        <p:spPr>
          <a:xfrm>
            <a:off x="0" y="549360"/>
            <a:ext cx="685008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rtunately, he falls into a planet. Oh! Jill cannot believes his eyes, a big eye, eight legs, four hands and a long tail, it just like an octopus, it stand in front of Jill, it is an alien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485" name="" descr=""/>
          <p:cNvPicPr/>
          <p:nvPr/>
        </p:nvPicPr>
        <p:blipFill>
          <a:blip r:embed="rId1"/>
          <a:stretch/>
        </p:blipFill>
        <p:spPr>
          <a:xfrm>
            <a:off x="4824360" y="3357720"/>
            <a:ext cx="4319640" cy="3674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2" dur="500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48360"/>
          </a:xfrm>
          <a:prstGeom prst="rect">
            <a:avLst/>
          </a:prstGeom>
          <a:ln w="0">
            <a:noFill/>
          </a:ln>
        </p:spPr>
      </p:pic>
      <p:sp>
        <p:nvSpPr>
          <p:cNvPr id="487" name="PlaceHolder 1"/>
          <p:cNvSpPr>
            <a:spLocks noGrp="1"/>
          </p:cNvSpPr>
          <p:nvPr>
            <p:ph/>
          </p:nvPr>
        </p:nvSpPr>
        <p:spPr>
          <a:xfrm>
            <a:off x="684000" y="4652640"/>
            <a:ext cx="806436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‘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My name is Jill, I fell into this planet by accident.’ Jill starts to talk to the alien.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88" name="" descr=""/>
          <p:cNvPicPr/>
          <p:nvPr/>
        </p:nvPicPr>
        <p:blipFill>
          <a:blip r:embed="rId2"/>
          <a:stretch/>
        </p:blipFill>
        <p:spPr>
          <a:xfrm>
            <a:off x="2627280" y="404640"/>
            <a:ext cx="3835440" cy="4044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4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1" name=""/>
          <p:cNvSpPr/>
          <p:nvPr/>
        </p:nvSpPr>
        <p:spPr>
          <a:xfrm rot="10800000">
            <a:off x="611280" y="3068280"/>
            <a:ext cx="5976720" cy="2592360"/>
          </a:xfrm>
          <a:prstGeom prst="wedgeEllipseCallout">
            <a:avLst>
              <a:gd name="adj1" fmla="val -54916"/>
              <a:gd name="adj2" fmla="val 87597"/>
            </a:avLst>
          </a:prstGeom>
          <a:noFill/>
          <a:ln w="5724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899640" y="3573000"/>
            <a:ext cx="554364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 Black"/>
              </a:rPr>
              <a:t>‘</a:t>
            </a:r>
            <a:r>
              <a:rPr b="0" lang="en-US" sz="3200" spc="-1" strike="noStrike">
                <a:solidFill>
                  <a:srgbClr val="ccecff"/>
                </a:solidFill>
                <a:latin typeface="Arial Black"/>
              </a:rPr>
              <a:t>Hello, My name is Tom, Can I be your friend ?’ Tom said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93" name="" descr=""/>
          <p:cNvPicPr/>
          <p:nvPr/>
        </p:nvPicPr>
        <p:blipFill>
          <a:blip r:embed="rId2"/>
          <a:stretch/>
        </p:blipFill>
        <p:spPr>
          <a:xfrm>
            <a:off x="5472000" y="692280"/>
            <a:ext cx="3672000" cy="31240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31T10:50:46Z</dcterms:created>
  <dc:creator>Cho</dc:creator>
  <dc:description/>
  <dc:language>en-US</dc:language>
  <cp:lastModifiedBy>Cho</cp:lastModifiedBy>
  <dcterms:modified xsi:type="dcterms:W3CDTF">2009-02-04T13:17:45Z</dcterms:modified>
  <cp:revision>30</cp:revision>
  <dc:subject/>
  <dc:title>Astronaut Jill</dc:title>
</cp:coreProperties>
</file>