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1.jpeg" ContentType="image/jpeg"/>
  <Override PartName="/ppt/media/image8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8.wmf" ContentType="image/x-wmf"/>
  <Override PartName="/ppt/media/image27.jpeg" ContentType="image/jpeg"/>
  <Override PartName="/ppt/media/image6.jpeg" ContentType="image/jpeg"/>
  <Override PartName="/ppt/media/image30.wmf" ContentType="image/x-wmf"/>
  <Override PartName="/ppt/media/image19.jpeg" ContentType="image/jpeg"/>
  <Override PartName="/ppt/media/image31.wmf" ContentType="image/x-wmf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.wmf" ContentType="image/x-wmf"/>
  <Override PartName="/ppt/media/image26.wmf" ContentType="image/x-wmf"/>
  <Override PartName="/ppt/media/image2.jpeg" ContentType="image/jpeg"/>
  <Override PartName="/ppt/media/image23.jpeg" ContentType="image/jpeg"/>
  <Override PartName="/ppt/media/image25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22.jpeg" ContentType="image/jpeg"/>
  <Override PartName="/ppt/media/image17.jpeg" ContentType="image/jpeg"/>
  <Override PartName="/ppt/media/image18.jpeg" ContentType="image/jpeg"/>
  <Override PartName="/ppt/media/image29.wmf" ContentType="image/x-wmf"/>
  <Override PartName="/ppt/media/image1.png" ContentType="image/pn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7A0-0D80-4FBA-B2A3-A3C246F8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43DD-3DAE-4CD8-B3D1-E25F1FC2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B60-8B06-4C54-AA06-A19F08EC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8948-E7C2-45A7-8DEB-10151881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A665-96A9-4ACC-8C98-AA6835AA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CC92-447F-4165-881B-B731B534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EFB9-14E1-4715-8309-EBCCCBB3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3D48-3B18-4545-B75F-F1BD28A1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1A7B-7292-4FE6-82FB-41398DCD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DEA2-7AFA-4D9E-B5CB-BBCF940C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5541-6779-4AC3-8032-2B05E771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F43-3266-45DD-A673-D0F582FE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ADF8-1497-46BA-9931-C72B05F4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AA6A-A753-4BFA-95C6-E5024212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EB60-5289-4CA8-ABEE-7FD694A0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4F16-443E-45A6-B011-64C386AE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0EAE-36CA-4285-9618-2729CE69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86BF-B52A-45BC-8B85-DDD56437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D4F3-A46E-4B34-BFCE-776D7BCD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E74C-329A-437F-9814-2E756FAD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816-05B0-45B2-A220-23CB3711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B01-3894-4B61-BDC4-398AFD33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6D02-9B0A-4D4A-8F9E-4431C14A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AE34-248E-4111-B021-7D517F6C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8D7C-0209-4EA7-8F4E-B6E4079AD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AB33-7E84-4118-A1DD-C6D1E9581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k.wrs.yahoo.com/_ylt=A3xsaCTH8YZJRBMBEHK1ygt./SIG=14jokdc1s/EXP=1233666887/**http%3A//hk.search.yahoo.com/search/images%3Fview=detailed%26p=dragon%26b=1%26pstart=1%26curr_index=1%26imgsz=%26imgc=%26ei=UTF-8" TargetMode="External"/><Relationship Id="rId2" Type="http://schemas.openxmlformats.org/officeDocument/2006/relationships/hyperlink" Target="http://hk.wrs.yahoo.com/_ylt=A3xsaCTH8YZJRBMBIXK1ygt./SIG=14j7i5s4p/EXP=1233666887/**http%3A//hk.search.yahoo.com/search/images%3Fview=detailed%26p=dragon%26b=9%26pstart=1%26curr_index=4%26imgsz=%26imgc=%26ei=UTF-8" TargetMode="External"/><Relationship Id="rId3" Type="http://schemas.openxmlformats.org/officeDocument/2006/relationships/hyperlink" Target="http://hk.wrs.yahoo.com/_ylt=A3xsaCTH8YZJRBMBGHK1ygt./SIG=14javunqq/EXP=1233666887/**http%3A//hk.search.yahoo.com/search/images%3Fview=detailed%26p=dragon%26b=1%26pstart=1%26curr_index=5%26imgsz=%26imgc=%26ei=UTF-8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hk.wrs.yahoo.com/_ylt=A3xsaCTH8YZJRBMBIXK1ygt./SIG=14j7i5s4p/EXP=1233666887/**http%3A//hk.search.yahoo.com/search/images%3Fview=detailed%26p=dragon%26b=9%26pstart=1%26curr_index=4%26imgsz=%26imgc=%26ei=UTF-8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hk.wrs.yahoo.com/_ylt=A3xsaCSc8oZJwh4BQVe1ygt./SIG=14jqpgkgd/EXP=1233667100/**http%3A//hk.search.yahoo.com/search/images%3Fview=detailed%26p=shrimp%26b=1%26pstart=1%26curr_index=1%26imgsz=%26imgc=%26ei=UTF-8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hk.wrs.yahoo.com/_ylt=A3xsaCR59YZJRTIB9we1ygt./SIG=14u59n2bg/EXP=1233667833/**http%3A//hk.search.yahoo.com/search/images%3Fview=detailed%26p=powerful%2Bdragon%26b=9%26pstart=1%26curr_index=5%26imgsz=%26imgc=%26ei=UTF-8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hk.wrs.yahoo.com/_ylt=A3xsaCsK9IZJUyEAPKe1ygt./SIG=151uhs05h/EXP=1233667466/**http%3A//hk.search.yahoo.com/search/images%3Fview=detailed%26p=dragon%2Blong%2Blife%26b=1%26pstart=1%26curr_index=4%26imgsz=%26imgc=%26ei=UTF-8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hk.wrs.yahoo.com/_ylt=A3xsaCto94ZJJEAAXCS1ygt./SIG=154qn78b2/EXP=1233668328/**http%3A//hk.search.yahoo.com/search/images%3Fview=detailed%26p=dragon%2Bking%2Bclothes%26b=1%26pstart=1%26curr_index=1%26imgsz=%26imgc=%26ei=UTF-8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hk.wrs.yahoo.com/_ylt=A3xsaCtA9IZJFzUAqyO1ygt./SIG=158m9ljmh/EXP=1233667520/**http%3A//hk.search.yahoo.com/search/images%3Fview=detailed%26p=dragon%2Bbuilding%2Bancient%26b=9%26pstart=1%26curr_index=4%26imgsz=%26imgc=%26ei=UTF-8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hk.wrs.yahoo.com/_ylt=A3xsaCtA9IZJFzUAuiO1ygt./SIG=159a5n9o4/EXP=1233667520/**http%3A//hk.search.yahoo.com/search/images%3Fview=detailed%26p=dragon%2Bbuilding%2Bancient%26b=17%26pstart=1%26curr_index=1%26imgsz=%26imgc=%26ei=UTF-8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k.wrs.yahoo.com/_ylt=A3xsaCOS9IZJhoQA9z.1ygt./SIG=14rtnvm4l/EXP=1233667602/**http%3A//hk.search.yahoo.com/search/images%3Fview=detailed%26p=dragon%2Bdance%26b=1%26pstart=1%26curr_index=3%26imgsz=%26imgc=%26ei=UTF-8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hk.wrs.yahoo.com/_ylt=A3xsaCOS9IZJhoQA_T.1ygt./SIG=14rag80lu/EXP=1233667602/**http%3A//hk.search.yahoo.com/search/images%3Fview=detailed%26p=dragon%2Bdance%26b=1%26pstart=1%26curr_index=7%26imgsz=%26imgc=%26ei=UTF-8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hk.wrs.yahoo.com/_ylt=A3xsaCOS9IZJhoQAIkC1ygt./SIG=14sni3d5f/EXP=1233667602/**http%3A//hk.search.yahoo.com/search/images%3Fview=detailed%26p=dragon%2Bdance%26b=17%26pstart=1%26curr_index=4%26imgsz=%26imgc=%26ei=UTF-8" TargetMode="External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新細明體"/>
              </a:rPr>
              <a:t> </a:t>
            </a:r>
            <a:r>
              <a:rPr b="0" lang="en-US" sz="4400" spc="-1" strike="noStrike">
                <a:solidFill>
                  <a:srgbClr val="221304"/>
                </a:solidFill>
                <a:latin typeface="Arial Black"/>
                <a:ea typeface="BatangChe"/>
              </a:rPr>
              <a:t>Dragon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新細明體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3040" y="3830400"/>
            <a:ext cx="592776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859c"/>
                </a:solidFill>
                <a:latin typeface="Times New Roman"/>
                <a:ea typeface="新細明體"/>
              </a:rPr>
              <a:t>Author: Oscar Chan(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859c"/>
                </a:solidFill>
                <a:latin typeface="Times New Roman"/>
                <a:ea typeface="新細明體"/>
              </a:rPr>
              <a:t>Class: 2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C:\Users\Mabel\AppData\Local\Microsoft\Windows\Temporary Internet Files\Content.IE5\4FQQ8HGS\MCj03558090000[1].wmf"/>
          <p:cNvPicPr/>
          <p:nvPr/>
        </p:nvPicPr>
        <p:blipFill>
          <a:blip r:embed="rId1"/>
          <a:stretch/>
        </p:blipFill>
        <p:spPr>
          <a:xfrm>
            <a:off x="6215040" y="571680"/>
            <a:ext cx="1843200" cy="1182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:\Users\Mabel\AppData\Local\Microsoft\Windows\Temporary Internet Files\Content.IE5\4FQQ8HGS\MCj03558090000[1].wmf"/>
          <p:cNvPicPr/>
          <p:nvPr/>
        </p:nvPicPr>
        <p:blipFill>
          <a:blip r:embed="rId2"/>
          <a:stretch/>
        </p:blipFill>
        <p:spPr>
          <a:xfrm>
            <a:off x="3643200" y="5214960"/>
            <a:ext cx="1843200" cy="1182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:\Users\Mabel\AppData\Local\Microsoft\Windows\Temporary Internet Files\Content.IE5\4FQQ8HGS\MCj03558090000[1].wmf"/>
          <p:cNvPicPr/>
          <p:nvPr/>
        </p:nvPicPr>
        <p:blipFill>
          <a:blip r:embed="rId3"/>
          <a:stretch/>
        </p:blipFill>
        <p:spPr>
          <a:xfrm>
            <a:off x="928800" y="642960"/>
            <a:ext cx="18428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990360" y="1828440"/>
            <a:ext cx="766764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he hopes that I will be a dragon.  I think she wants me to be as successful and as powerful as a DRAG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新細明體"/>
              </a:rPr>
              <a:t>Dragon and mo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Picture 4" descr="C:\Users\Mabel\AppData\Local\Microsoft\Windows\Temporary Internet Files\Content.IE5\JZ30V0H6\MCj02282480000[1].wmf"/>
          <p:cNvPicPr/>
          <p:nvPr/>
        </p:nvPicPr>
        <p:blipFill>
          <a:blip r:embed="rId1"/>
          <a:stretch/>
        </p:blipFill>
        <p:spPr>
          <a:xfrm>
            <a:off x="6357960" y="4214880"/>
            <a:ext cx="1604880" cy="1795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Users\Mabel\AppData\Local\Microsoft\Windows\Temporary Internet Files\Content.IE5\OL13U1QT\MCj03950980000[1].wmf"/>
          <p:cNvPicPr/>
          <p:nvPr/>
        </p:nvPicPr>
        <p:blipFill>
          <a:blip r:embed="rId2"/>
          <a:stretch/>
        </p:blipFill>
        <p:spPr>
          <a:xfrm>
            <a:off x="1428840" y="4357800"/>
            <a:ext cx="1842840" cy="1569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Users\Mabel\AppData\Local\Microsoft\Windows\Temporary Internet Files\Content.IE5\FQ5PVDUR\MCj02281310000[1].wmf"/>
          <p:cNvPicPr/>
          <p:nvPr/>
        </p:nvPicPr>
        <p:blipFill>
          <a:blip r:embed="rId3"/>
          <a:stretch/>
        </p:blipFill>
        <p:spPr>
          <a:xfrm>
            <a:off x="3781440" y="4424400"/>
            <a:ext cx="1900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新細明體"/>
              </a:rPr>
              <a:t>Dragon m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8" name="Picture 3" descr="E:\Documents\DSC08955.JPG"/>
          <p:cNvPicPr/>
          <p:nvPr/>
        </p:nvPicPr>
        <p:blipFill>
          <a:blip r:embed="rId1"/>
          <a:stretch/>
        </p:blipFill>
        <p:spPr>
          <a:xfrm>
            <a:off x="3305160" y="1752480"/>
            <a:ext cx="3143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新細明體"/>
              </a:rPr>
              <a:t>Dragon’s telling mom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ma , I will try my best to be a successful &amp; powerful m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2" descr="C:\Users\Mabel\AppData\Local\Microsoft\Windows\Temporary Internet Files\Content.IE5\OL13U1QT\MCj01986060000[1].wmf"/>
          <p:cNvPicPr/>
          <p:nvPr/>
        </p:nvPicPr>
        <p:blipFill>
          <a:blip r:embed="rId1"/>
          <a:stretch/>
        </p:blipFill>
        <p:spPr>
          <a:xfrm>
            <a:off x="785880" y="3571920"/>
            <a:ext cx="1622520" cy="2095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Users\Mabel\AppData\Local\Microsoft\Windows\Temporary Internet Files\Content.IE5\JZ30V0H6\MCBD06891_0000[1].wmf"/>
          <p:cNvPicPr/>
          <p:nvPr/>
        </p:nvPicPr>
        <p:blipFill>
          <a:blip r:embed="rId2"/>
          <a:stretch/>
        </p:blipFill>
        <p:spPr>
          <a:xfrm>
            <a:off x="2643120" y="3714840"/>
            <a:ext cx="1982880" cy="1839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Users\Mabel\AppData\Local\Microsoft\Windows\Temporary Internet Files\Content.IE5\FQ5PVDUR\MCj03440990000[1].wmf"/>
          <p:cNvPicPr/>
          <p:nvPr/>
        </p:nvPicPr>
        <p:blipFill>
          <a:blip r:embed="rId3"/>
          <a:stretch/>
        </p:blipFill>
        <p:spPr>
          <a:xfrm>
            <a:off x="5143680" y="3643200"/>
            <a:ext cx="1066680" cy="1876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Users\Mabel\AppData\Local\Microsoft\Windows\Temporary Internet Files\Content.IE5\FQ5PVDUR\MCj03955620000[1].wmf"/>
          <p:cNvPicPr/>
          <p:nvPr/>
        </p:nvPicPr>
        <p:blipFill>
          <a:blip r:embed="rId4"/>
          <a:stretch/>
        </p:blipFill>
        <p:spPr>
          <a:xfrm>
            <a:off x="6429240" y="3714840"/>
            <a:ext cx="1871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新細明體"/>
              </a:rPr>
              <a:t>Dragon says goodby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 you want to be a drago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ank you for your atten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  <a:ea typeface="新細明體"/>
              </a:rPr>
              <a:t>What does Dragon mean to you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19320" y="1523880"/>
          <a:ext cx="7391160" cy="4800600"/>
        </p:xfrm>
        <a:graphic>
          <a:graphicData uri="http://schemas.openxmlformats.org/drawingml/2006/table">
            <a:tbl>
              <a:tblPr/>
              <a:tblGrid>
                <a:gridCol w="3660480"/>
                <a:gridCol w="3730680"/>
              </a:tblGrid>
              <a:tr h="24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         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Monster?</a:t>
                      </a: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ea typeface="新細明體"/>
                          <a:hlinkClick r:id="rId1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Spirits?</a:t>
                      </a:r>
                      <a:r>
                        <a:rPr b="1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ea typeface="新細明體"/>
                          <a:hlinkClick r:id="rId2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     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新細明體"/>
                        </a:rPr>
                        <a:t>Go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 big shrimp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Picture 20" descr="http://d.yimg.com/mt/image/8d5fd7d7ba44bab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4038480"/>
            <a:ext cx="1679400" cy="2133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2" descr="http://d.yimg.com/mw/image/e8ae8ab633cce6c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24480" y="1676520"/>
            <a:ext cx="2133720" cy="1992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4" descr="http://d.yimg.com/mt/image/3a76507862cfc7f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48520" y="4495680"/>
            <a:ext cx="2209680" cy="1641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7" descr="http://d.yimg.com/mt/image/db57610e5bf6b83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743200" y="1981080"/>
            <a:ext cx="205740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新細明體"/>
              </a:rPr>
              <a:t>Dragon means.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Chinese, Dragon means POWERFUL, LUCK and LONG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C:\Users\Mabel\AppData\Local\Microsoft\Windows\Temporary Internet Files\Content.IE5\OL13U1QT\MCj03871570000[1].jpg"/>
          <p:cNvPicPr/>
          <p:nvPr/>
        </p:nvPicPr>
        <p:blipFill>
          <a:blip r:embed="rId1"/>
          <a:stretch/>
        </p:blipFill>
        <p:spPr>
          <a:xfrm>
            <a:off x="4800600" y="2819520"/>
            <a:ext cx="3657600" cy="3714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http://d.yimg.com/mw/image/b40b0444de128f7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3429000"/>
            <a:ext cx="31244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新細明體"/>
              </a:rPr>
              <a:t>Dragon in history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680" y="1904760"/>
            <a:ext cx="786312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Chinese dynasty, the King is the only one  who can wear clothes with DRAGON pat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C:\Users\Mabel\Desktop\180px-LongPao.jpg"/>
          <p:cNvPicPr/>
          <p:nvPr/>
        </p:nvPicPr>
        <p:blipFill>
          <a:blip r:embed="rId1"/>
          <a:stretch/>
        </p:blipFill>
        <p:spPr>
          <a:xfrm>
            <a:off x="5486400" y="3276720"/>
            <a:ext cx="2286000" cy="3047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http://d.yimg.com/mt/image/4d2df49bf9613f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3276720"/>
            <a:ext cx="2143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新細明體"/>
              </a:rPr>
              <a:t>Dragon and building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360" y="1905120"/>
            <a:ext cx="79390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of the buildings in China, such as    Imperial Palaces, temples are with the DRAGON’S sculp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C:\Users\Mabel\AppData\Local\Microsoft\Windows\Temporary Internet Files\Content.IE5\FQ5PVDUR\MPj03459710000[1].jpg"/>
          <p:cNvPicPr/>
          <p:nvPr/>
        </p:nvPicPr>
        <p:blipFill>
          <a:blip r:embed="rId1"/>
          <a:stretch/>
        </p:blipFill>
        <p:spPr>
          <a:xfrm>
            <a:off x="2971800" y="4038480"/>
            <a:ext cx="2971800" cy="2460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ttp://d.yimg.com/mw/image/f4465018b07cd46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3124080"/>
            <a:ext cx="2554560" cy="3429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ttp://d.yimg.com/mt/image/e18ad97ae8e2fd4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66680" y="4572000"/>
            <a:ext cx="18288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新細明體"/>
              </a:rPr>
              <a:t>Dragon in the festival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95280" y="1828440"/>
            <a:ext cx="720576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 some of the Chinese festivals, people would like to use DRAGON for deco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7" descr="C:\Users\Mabel\AppData\Local\Microsoft\Windows\Temporary Internet Files\Content.IE5\4FQQ8HGS\MCj03360660000[1].wmf"/>
          <p:cNvPicPr/>
          <p:nvPr/>
        </p:nvPicPr>
        <p:blipFill>
          <a:blip r:embed="rId1"/>
          <a:stretch/>
        </p:blipFill>
        <p:spPr>
          <a:xfrm>
            <a:off x="2895480" y="2895480"/>
            <a:ext cx="35816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新細明體"/>
              </a:rPr>
              <a:t>Drag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can we see DRAGON 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es, we can see him in Dragon boat festiv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C:\Users\Mabel\AppData\Local\Microsoft\Windows\Temporary Internet Files\Content.IE5\FQ5PVDUR\MCj03241900000[1].wmf"/>
          <p:cNvPicPr/>
          <p:nvPr/>
        </p:nvPicPr>
        <p:blipFill>
          <a:blip r:embed="rId1"/>
          <a:stretch/>
        </p:blipFill>
        <p:spPr>
          <a:xfrm>
            <a:off x="2357280" y="3218040"/>
            <a:ext cx="514368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新細明體"/>
              </a:rPr>
              <a:t>Drag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2" name="Picture 2" descr="C:\Users\Mabel\Desktop\180px-2008_Olympic_Torch_Relay_in_SF_-_Dragon_dance_08.jpg"/>
          <p:cNvPicPr/>
          <p:nvPr/>
        </p:nvPicPr>
        <p:blipFill>
          <a:blip r:embed="rId1"/>
          <a:stretch/>
        </p:blipFill>
        <p:spPr>
          <a:xfrm>
            <a:off x="990720" y="3048120"/>
            <a:ext cx="3001680" cy="3376440"/>
          </a:xfrm>
          <a:prstGeom prst="rect">
            <a:avLst/>
          </a:prstGeom>
          <a:ln w="0">
            <a:noFill/>
          </a:ln>
        </p:spPr>
      </p:pic>
      <p:sp>
        <p:nvSpPr>
          <p:cNvPr id="123" name="矩形 7"/>
          <p:cNvSpPr/>
          <p:nvPr/>
        </p:nvSpPr>
        <p:spPr>
          <a:xfrm>
            <a:off x="1143000" y="152388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, we can see him in Chinese Lunar New Year.  He is dancing &amp; it is a really nice d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http://d.yimg.com/mv/image/c044cc3c11dae33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2895480"/>
            <a:ext cx="2681280" cy="165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d.yimg.com/mv/image/8a6a32821253517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62920" y="2895480"/>
            <a:ext cx="1600200" cy="1676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http://d.yimg.com/mw/image/a34625ca214e2d1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114800" y="4800600"/>
            <a:ext cx="1325520" cy="165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http://d.yimg.com/mv/image/57e116866040b50a"/>
          <p:cNvPicPr/>
          <p:nvPr/>
        </p:nvPicPr>
        <p:blipFill>
          <a:blip r:embed="rId8"/>
          <a:stretch/>
        </p:blipFill>
        <p:spPr>
          <a:xfrm>
            <a:off x="5562720" y="4800600"/>
            <a:ext cx="1554120" cy="1638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http://d.yimg.com/mw/image/9dfd8d56b583e57c"/>
          <p:cNvPicPr/>
          <p:nvPr/>
        </p:nvPicPr>
        <p:blipFill>
          <a:blip r:embed="rId9"/>
          <a:stretch/>
        </p:blipFill>
        <p:spPr>
          <a:xfrm>
            <a:off x="7238880" y="4800600"/>
            <a:ext cx="1554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新細明體"/>
              </a:rPr>
              <a:t>Dragon and us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42960" y="164268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ma always tells me: “ We are the descendants of the Dragon”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C:\Users\Mabel\AppData\Local\Microsoft\Windows\Temporary Internet Files\Content.IE5\FQ5PVDUR\MPj01785160000[1].jpg"/>
          <p:cNvPicPr/>
          <p:nvPr/>
        </p:nvPicPr>
        <p:blipFill>
          <a:blip r:embed="rId1"/>
          <a:stretch/>
        </p:blipFill>
        <p:spPr>
          <a:xfrm>
            <a:off x="5105520" y="3352680"/>
            <a:ext cx="36576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9:24:01Z</dcterms:created>
  <dc:creator>Mabel</dc:creator>
  <dc:description/>
  <dc:language>en-US</dc:language>
  <cp:lastModifiedBy>Louis Cheung</cp:lastModifiedBy>
  <dcterms:modified xsi:type="dcterms:W3CDTF">2009-02-03T01:18:16Z</dcterms:modified>
  <cp:revision>55</cp:revision>
  <dc:subject/>
  <dc:title>Dragon Story</dc:title>
</cp:coreProperties>
</file>