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7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31.jpeg" ContentType="image/jpeg"/>
  <Override PartName="/ppt/media/image4.jpeg" ContentType="image/jpeg"/>
  <Override PartName="/ppt/media/image41.png" ContentType="image/png"/>
  <Override PartName="/ppt/media/image43.jpeg" ContentType="image/jpeg"/>
  <Override PartName="/ppt/media/image5.jpeg" ContentType="image/jpeg"/>
  <Override PartName="/ppt/media/image26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A4EF-4EF4-4ADE-988B-52F94F755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A940-9CC9-48D2-A349-12A2AD7C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C2B7-996C-48E3-ABDE-68E11B25F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6E3E-B185-4CA1-AC4C-B03B7EC56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C6AF-FDFB-4769-B1B0-9CC637DD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8893-97F9-43F2-8626-6F12749B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B879-BF18-4BB0-9831-8FC6A38A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7841-9885-4A50-9464-97417197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2F1F-3AFB-44E2-BC26-09A41D24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0F26-039F-403C-A5AE-AD6E1C62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6CE8-C679-41D1-B43A-F89F4030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9E69-505F-454A-898E-86CDC22C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218B-7099-429C-99DB-8EE0539C413E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viator.com/tours/Penang/Pulau-Payar-Marine-Park-Snorkeling-Tour-from-Penang/d339-3705PEN27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hyperlink" Target="http://flagspot.net/images/m/my.gif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www.kuala-lumpur.ws/attractions/architectualwonders.html" TargetMode="External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hyperlink" Target="http://images.google.com.hk/imgres?imgurl=http://www.timeshares.marriott-vacations.com/common/marriott-timeshare/images/photo_big_beach_resorts.jpg&amp;imgrefurl=http://www.timeshares.marriott-vacations.com/ownership/beach-resorts.jsp&amp;usg=__NJwpAK5O6gLTsTUir3yPgST7Ib4=&amp;h=319&amp;w=464&amp;sz=114&amp;hl=zh-TW&amp;start=8&amp;tbnid=1vngLbVxwEVC4M:&amp;tbnh=88&amp;tbnw=128&amp;prev=/images%3Fq%3Dbeach%26gbv%3D2%26hl%3Dzh-TW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hk.wrs.yahoo.com/_ylt=A3xsaCMohopJ3WABrSO.ygt./SIG=1298bhqro/EXP=1233901480/**http%3A//static.flickr.com/222/497604579_59ed2ff27b.jpg" TargetMode="External"/><Relationship Id="rId3" Type="http://schemas.openxmlformats.org/officeDocument/2006/relationships/image" Target="../media/image25.jpeg"/><Relationship Id="rId4" Type="http://schemas.openxmlformats.org/officeDocument/2006/relationships/hyperlink" Target="http://hk.wrs.yahoo.com/_ylt=A3xsaCu6hopJdzsBDZG.ygt./SIG=12bk96his/EXP=1233901626/**http%3A//static.flickr.com/3219/2778691182_50e7deefe6.jpg" TargetMode="External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photo.xanga.com/piggygrace/852ea138859839/photo.html" TargetMode="External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15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viator.com/tours/Penang/Pulau-Payar-Marine-Park-Snorkeling-Tour-from-Penang/d339-3705PEN27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.hk/imgres?imgurl=http://img.perezhilton.com/wp-content/uploads/2009/01/sanjaygupta.jpg&amp;imgrefurl=http://perezhilton.com/2009-01-07-barry-o-wants-cnns-medicine-man-to-be-the-uss-surgeon-general&amp;usg=__PkpAqj_oeK3wBDaK2RZ1ap2rQdE=&amp;h=675&amp;w=450&amp;sz=50&amp;hl=zh-TW&amp;start=902&amp;tbnid=13GeWLuHUmKh3M:&amp;tbnh=138&amp;tbnw=92&amp;prev=/images%3Fq%3Dman%26start%3D900%26gbv%3D2%26ndsp%3D20%26hl%3Dzh-TW%26sa%3DN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com.hk/imgres?imgurl=http://bettersmarterkids.com/wp-images/Cute-Baby-Boy.jpg&amp;imgrefurl=http://bettersmarterkids.com/baby-boy-names/2007/07/14/&amp;usg=__ondUXWwsxTaVWT_S8csxiO4EzOs=&amp;h=300&amp;w=400&amp;sz=127&amp;hl=zh-TW&amp;start=524&amp;tbnid=-z5JFuLZhB7V7M:&amp;tbnh=93&amp;tbnw=124&amp;prev=/images%3Fq%3Dboy%26start%3D520%26gbv%3D2%26ndsp%3D20%26hl%3Dzh-TW%26sa%3DN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hyperlink" Target="http://hk.wrs.yahoo.com/_ylt=A3xsaCvMiIpJ7k4BVji.ygt./SIG=128jphqm9/EXP=1233902156/**http%3A//static.flickr.com/50/150923590_1db6361cdb.jpg" TargetMode="External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hk.wrs.yahoo.com/_ylt=A3xsaCvDiYpJs0QBz6K.ygt./SIG=129kqfn62/EXP=1233902403/**http%3A//static.flickr.com/123/346924551_b31637fc4c.jpg" TargetMode="External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flagspot.net/images/m/my.gif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.hk/imgres?imgurl=http://z.about.com/d/bodybuilding/1/0/i/2/HugoSick.JPG&amp;imgrefurl=http://bodybuilding.about.com/b/2007/09/10/bodybuilding-tip-should-you-continue-your-bodybuilding-training-and-diet-when-sick.htm&amp;usg=__3YEyw7lVb-G9FXISALSy1ika6MA=&amp;h=807&amp;w=806&amp;sz=117&amp;hl=zh-TW&amp;start=20&amp;tbnid=BaVxV6Zrvg1tlM:&amp;tbnh=143&amp;tbnw=143&amp;prev=/images%3Fq%3Dsick%26gbv%3D2%26hl%3Dzh-TW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hk.wrs.yahoo.com/_ylt=A3xsaCSVi4pJwtIA40..ygt./SIG=12nd6goni/EXP=1233902869/**http%3A//images.allmoviephoto.com/2003_Good_Boy/2003_good_boy_005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z.about.com/d/toys/1/0/t/7/ElinaFairy.jpg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71640" y="2349360"/>
            <a:ext cx="7200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新細明體"/>
              </a:rPr>
              <a:t>Sam's trip to Malaysia</a:t>
            </a:r>
            <a:endParaRPr b="1" i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</p:txBody>
      </p:sp>
      <p:pic>
        <p:nvPicPr>
          <p:cNvPr id="42" name="" descr="Pulau Payar Marine Park Snorkeling Tour from Penang, Penang, Day Tri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34320" y="152280"/>
            <a:ext cx="1873080" cy="1800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257800" y="152280"/>
            <a:ext cx="1722600" cy="1800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[Malaysia]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90920" y="152280"/>
            <a:ext cx="2700360" cy="1971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Architectural Landmarks in Kuala Lumpur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635280" y="4581360"/>
            <a:ext cx="1455840" cy="2160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8"/>
          <a:stretch/>
        </p:blipFill>
        <p:spPr>
          <a:xfrm>
            <a:off x="228600" y="152280"/>
            <a:ext cx="2438280" cy="1847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9"/>
          <a:stretch/>
        </p:blipFill>
        <p:spPr>
          <a:xfrm>
            <a:off x="5076720" y="4581360"/>
            <a:ext cx="2052720" cy="2133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10"/>
          <a:stretch/>
        </p:blipFill>
        <p:spPr>
          <a:xfrm>
            <a:off x="7093080" y="4581360"/>
            <a:ext cx="1800000" cy="2087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1"/>
          <a:stretch/>
        </p:blipFill>
        <p:spPr>
          <a:xfrm>
            <a:off x="250920" y="4581360"/>
            <a:ext cx="338616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4360" y="3357720"/>
            <a:ext cx="776736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There were a lot of places to visit in Langkwai. Here were the places that Uncle Janson took Sam 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796000" y="1557360"/>
            <a:ext cx="2448000" cy="1666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55640" y="620640"/>
            <a:ext cx="2305080" cy="15242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03640" y="1197000"/>
            <a:ext cx="2376360" cy="1633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.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4920" y="-88560"/>
            <a:ext cx="20890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4360" y="3357720"/>
            <a:ext cx="776736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First, they visited the bats cave where they saw a lot of bats hanging at top of the limest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2362320" cy="2951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43280" y="404640"/>
            <a:ext cx="2468520" cy="2967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292720" y="549360"/>
            <a:ext cx="3240000" cy="242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.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84360" y="3357720"/>
            <a:ext cx="776736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Then, they went to view eagles feeding. Sam saw how eagles got food skillfully at riv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076720" y="620640"/>
            <a:ext cx="2274840" cy="2808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Devs Adventure Tours: Eagle"/>
          <p:cNvPicPr/>
          <p:nvPr/>
        </p:nvPicPr>
        <p:blipFill>
          <a:blip r:embed="rId2"/>
          <a:stretch/>
        </p:blipFill>
        <p:spPr>
          <a:xfrm>
            <a:off x="900000" y="549360"/>
            <a:ext cx="3627720" cy="2414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.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84360" y="3357720"/>
            <a:ext cx="776736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After that, they visited the Pregnant Maiden Lake. It was the largest fresh water lake in Malay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87280" y="549360"/>
            <a:ext cx="2737080" cy="2592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The bathing and viewing platform at the lake"/>
          <p:cNvPicPr/>
          <p:nvPr/>
        </p:nvPicPr>
        <p:blipFill>
          <a:blip r:embed="rId2"/>
          <a:stretch/>
        </p:blipFill>
        <p:spPr>
          <a:xfrm>
            <a:off x="4211640" y="620640"/>
            <a:ext cx="3600360" cy="252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.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4865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4360" y="3357720"/>
            <a:ext cx="776736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They swam in the lake. They also rode on a banana boat. They really had a good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P103020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549360"/>
            <a:ext cx="3671640" cy="2736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the ten man banana sled lets your friends sit next to you while you wipe out."/>
          <p:cNvPicPr/>
          <p:nvPr/>
        </p:nvPicPr>
        <p:blipFill>
          <a:blip r:embed="rId3"/>
          <a:stretch/>
        </p:blipFill>
        <p:spPr>
          <a:xfrm>
            <a:off x="4356000" y="549360"/>
            <a:ext cx="3961080" cy="273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.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86920" y="107640"/>
            <a:ext cx="18003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4360" y="3429000"/>
            <a:ext cx="7767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The next day, they took a cable car ride to top of the mountain. The scenery up there was beauti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116000" y="549360"/>
            <a:ext cx="2406600" cy="302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.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4360" y="3357720"/>
            <a:ext cx="776736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After lunch, they went to Eagle Square where there was a huge eagle carv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414680" y="3238560"/>
            <a:ext cx="314640" cy="380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414680" y="3238560"/>
            <a:ext cx="314640" cy="380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2268360" y="1225800"/>
            <a:ext cx="14400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067280" y="981000"/>
            <a:ext cx="2952720" cy="2067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476360" y="692280"/>
            <a:ext cx="2409840" cy="240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.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84360" y="3357720"/>
            <a:ext cx="776736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Pulau Payar Marine Park was another place that they could not miss. Uncle Janson and Sam went snorkelling th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932360" y="620640"/>
            <a:ext cx="3600360" cy="2773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414680" y="3238560"/>
            <a:ext cx="314640" cy="380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414680" y="3238560"/>
            <a:ext cx="314640" cy="380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539640" y="611280"/>
            <a:ext cx="4392720" cy="278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.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28000"/>
            <a:ext cx="21574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84360" y="3357720"/>
            <a:ext cx="776736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re was a lot of fish, baby sharks and corals. They fed the fish and swam with the baby shark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2881440" cy="19922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348000" y="907920"/>
            <a:ext cx="2857680" cy="2016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227640" y="1413000"/>
            <a:ext cx="2519640" cy="198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.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684360" y="3357720"/>
            <a:ext cx="776736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rals under water were very colorful. There were a lot of fish swam around the cor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Pulau Payar Marine Park Snorkeling Tour from Penang, Penang, Day Tri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549360"/>
            <a:ext cx="3672000" cy="2431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900000" y="549360"/>
            <a:ext cx="3278160" cy="2462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5580000" y="4581360"/>
            <a:ext cx="2484360" cy="201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.1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11280" y="468000"/>
            <a:ext cx="18734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3580920"/>
            <a:ext cx="7767360" cy="25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Sam was an orphan. He lived in an orphanage. Uncle Janson subsidized his li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609480"/>
            <a:ext cx="2104920" cy="2514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95280" y="685800"/>
            <a:ext cx="3168720" cy="237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.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84360" y="2971800"/>
            <a:ext cx="7767360" cy="31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Besides snorkelling, Sam also built sandcastles on the beach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4360" y="4581360"/>
            <a:ext cx="2666880" cy="190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932360" y="620640"/>
            <a:ext cx="3168720" cy="2025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24000" y="404640"/>
            <a:ext cx="4752720" cy="2313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300720" y="4365720"/>
            <a:ext cx="1839960" cy="209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.1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03280" y="620280"/>
            <a:ext cx="65534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4360" y="3357720"/>
            <a:ext cx="776736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nset at dusk was incredible! The sun looked as red as an egg yolk. Sam really enjoyed his stay in Malay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333360"/>
            <a:ext cx="7488360" cy="325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.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4360" y="3429000"/>
            <a:ext cx="7767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Sam always wanted to visit Uncle Jason who lived in Langkwai, Malays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876920" y="457200"/>
            <a:ext cx="2719440" cy="3024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[Malaysia]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87280" y="765000"/>
            <a:ext cx="3456000" cy="253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.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79640" y="731520"/>
            <a:ext cx="302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4360" y="3429000"/>
            <a:ext cx="7767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One day, Sam received a letter from Uncle Janson. “Oh! Uncle Janson was ill. I need to see him.” said S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76520" y="685800"/>
            <a:ext cx="3600360" cy="26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.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4360" y="3505320"/>
            <a:ext cx="7767360" cy="26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wever, Sam did not have any money. He felt upset and could not get to slee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3280" y="549360"/>
            <a:ext cx="2067120" cy="316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.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84360" y="479880"/>
            <a:ext cx="3456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4360" y="3505320"/>
            <a:ext cx="7767360" cy="26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Suddenly, a fairy appeared in front of Sam. She promised to send him to Malaysia. Sam was plea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Barbie Fairytopia Mermaidia 2006 - Elina Fairy Do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549360"/>
            <a:ext cx="4762800" cy="3219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2340000" y="333360"/>
            <a:ext cx="1190520" cy="119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.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4360" y="3429000"/>
            <a:ext cx="7767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The fairy waved the magic wand and after a second Sam was in Langkwai, Malay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476360" y="620640"/>
            <a:ext cx="2590920" cy="2881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00720" y="907920"/>
            <a:ext cx="3417840" cy="239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.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71280" y="864720"/>
            <a:ext cx="20876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84360" y="3429000"/>
            <a:ext cx="7767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Uncle Janson was pleased to see Sam. Sam took good care of hi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90920" y="457200"/>
            <a:ext cx="3097080" cy="304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.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55640" y="620280"/>
            <a:ext cx="31683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4360" y="3429000"/>
            <a:ext cx="7767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After a few days, Uncle Janson recovered from his illness. Therefore, he took Sam to go sightsee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132000" y="476280"/>
            <a:ext cx="2808360" cy="1440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900000" y="476280"/>
            <a:ext cx="2238480" cy="2952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132000" y="1916280"/>
            <a:ext cx="2592360" cy="1523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5724360" y="1916280"/>
            <a:ext cx="2238480" cy="15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.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06:59:15Z</dcterms:created>
  <dc:creator>Cheung</dc:creator>
  <dc:description/>
  <dc:language>en-US</dc:language>
  <cp:lastModifiedBy>Sammy</cp:lastModifiedBy>
  <dcterms:modified xsi:type="dcterms:W3CDTF">2009-02-06T05:32:09Z</dcterms:modified>
  <cp:revision>102</cp:revision>
  <dc:subject/>
  <dc:title>投影片 1</dc:title>
</cp:coreProperties>
</file>