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28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7.png" ContentType="image/png"/>
  <Override PartName="/ppt/media/image10.jpeg" ContentType="image/jpeg"/>
  <Override PartName="/ppt/media/image29.jpeg" ContentType="image/jpeg"/>
  <Override PartName="/ppt/media/image8.jpeg" ContentType="image/jpeg"/>
  <Override PartName="/ppt/media/image41.wmf" ContentType="image/x-wmf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4633-D476-476F-93E6-6DA05835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7CDF-4824-424C-998D-9AE11600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1161-639D-4F2F-B2B0-3B198D3F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C786-91A5-4B9B-BFB9-E6FC04B1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CE84-A247-4274-83FC-302CFB64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495D-FE4C-483F-AE4E-7E6EA129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8C48-9060-486E-8645-606589A1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2C7A-9C95-47EC-8519-A710A2EF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A09F-F646-42FE-BF71-DE7A771E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1EB1-22DF-48FD-A97B-DC810287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BB2D-8DFE-45A1-8641-179ADB66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F9C8-B96A-49DB-B668-E88BB5DF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89D6-30B0-44B5-AAA3-A02F42E789B8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37.png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6200000">
            <a:off x="-216720" y="1663920"/>
            <a:ext cx="5185080" cy="3672000"/>
          </a:xfrm>
          <a:custGeom>
            <a:avLst/>
            <a:gdLst>
              <a:gd name="textAreaLeft" fmla="*/ 0 w 5185080"/>
              <a:gd name="textAreaRight" fmla="*/ 5185080 w 5185080"/>
              <a:gd name="textAreaTop" fmla="*/ 0 h 3672000"/>
              <a:gd name="textAreaBottom" fmla="*/ 367236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alphaModFix amt="68000"/>
          </a:blip>
          <a:stretch/>
        </p:blipFill>
        <p:spPr>
          <a:xfrm>
            <a:off x="1476360" y="3933720"/>
            <a:ext cx="1801800" cy="197964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801800" y="1557360"/>
            <a:ext cx="1154160" cy="1152360"/>
          </a:xfrm>
          <a:prstGeom prst="flowChartOr">
            <a:avLst/>
          </a:prstGeom>
          <a:solidFill>
            <a:srgbClr val="ffffff">
              <a:alpha val="68000"/>
            </a:srgbClr>
          </a:solidFill>
          <a:ln w="47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88000" y="2682720"/>
            <a:ext cx="3598920" cy="3402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788000" y="460440"/>
            <a:ext cx="3600360" cy="2222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859280" y="851040"/>
            <a:ext cx="3384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Comic Sans MS"/>
              </a:rPr>
              <a:t>BoBo</a:t>
            </a:r>
            <a:r>
              <a:rPr b="0" lang="zh-TW" sz="1800" spc="-1" strike="noStrike">
                <a:solidFill>
                  <a:srgbClr val="6600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0099"/>
                </a:solidFill>
                <a:latin typeface="Comic Sans MS"/>
              </a:rPr>
              <a:t>AND</a:t>
            </a:r>
            <a:r>
              <a:rPr b="0" lang="zh-TW" sz="1800" spc="-1" strike="noStrike">
                <a:solidFill>
                  <a:srgbClr val="6600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6600ff"/>
                </a:solidFill>
                <a:latin typeface="Comic Sans MS"/>
              </a:rPr>
              <a:t>HIS </a:t>
            </a:r>
            <a:r>
              <a:rPr b="0" lang="zh-TW" sz="2800" spc="-1" strike="noStrike">
                <a:solidFill>
                  <a:srgbClr val="669900"/>
                </a:solidFill>
                <a:latin typeface="Comic Sans MS"/>
              </a:rPr>
              <a:t>NEW </a:t>
            </a:r>
            <a:r>
              <a:rPr b="0" lang="zh-TW" sz="2800" spc="-1" strike="noStrike">
                <a:solidFill>
                  <a:srgbClr val="cc00ff"/>
                </a:solidFill>
                <a:latin typeface="Comic Sans MS"/>
              </a:rPr>
              <a:t>P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92360" y="2997360"/>
            <a:ext cx="1295280" cy="71892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66"/>
                </a:solidFill>
                <a:latin typeface="Comic Sans MS"/>
              </a:rPr>
              <a:t>Bo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79280" y="764640"/>
            <a:ext cx="2160720" cy="151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411280" y="764640"/>
            <a:ext cx="2160720" cy="151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01840" y="68256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724360" y="4076640"/>
            <a:ext cx="1698840" cy="201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98fe7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835440" cy="38592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826920" y="1836720"/>
            <a:ext cx="3097440" cy="2087640"/>
          </a:xfrm>
          <a:prstGeom prst="wedgeEllipseCallout">
            <a:avLst>
              <a:gd name="adj1" fmla="val 50305"/>
              <a:gd name="adj2" fmla="val 43763"/>
            </a:avLst>
          </a:prstGeom>
          <a:solidFill>
            <a:srgbClr val="bbe0e3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99"/>
                </a:solidFill>
                <a:latin typeface="Comic Sans MS"/>
              </a:rPr>
              <a:t>“</a:t>
            </a:r>
            <a:r>
              <a:rPr b="0" lang="zh-TW" sz="2000" spc="-1" strike="noStrike">
                <a:solidFill>
                  <a:srgbClr val="ff3300"/>
                </a:solidFill>
                <a:latin typeface="Comic Sans MS"/>
              </a:rPr>
              <a:t>Mum</a:t>
            </a:r>
            <a:r>
              <a:rPr b="0" lang="zh-TW" sz="2000" spc="-1" strike="noStrike">
                <a:solidFill>
                  <a:srgbClr val="cc3399"/>
                </a:solidFill>
                <a:latin typeface="Comic Sans MS"/>
              </a:rPr>
              <a:t>, </a:t>
            </a:r>
            <a:r>
              <a:rPr b="0" lang="zh-TW" sz="2000" spc="-1" strike="noStrike">
                <a:solidFill>
                  <a:srgbClr val="9933ff"/>
                </a:solidFill>
                <a:latin typeface="Comic Sans MS"/>
              </a:rPr>
              <a:t>I’d like to </a:t>
            </a:r>
            <a:r>
              <a:rPr b="0" lang="zh-TW" sz="2000" spc="-1" strike="noStrike">
                <a:solidFill>
                  <a:srgbClr val="339966"/>
                </a:solidFill>
                <a:latin typeface="Comic Sans MS"/>
              </a:rPr>
              <a:t>introduce</a:t>
            </a:r>
            <a:r>
              <a:rPr b="0" lang="zh-TW" sz="2000" spc="-1" strike="noStrike">
                <a:solidFill>
                  <a:srgbClr val="9933ff"/>
                </a:solidFill>
                <a:latin typeface="Comic Sans MS"/>
              </a:rPr>
              <a:t> Fei Fei to </a:t>
            </a:r>
            <a:r>
              <a:rPr b="0" lang="zh-TW" sz="2400" spc="-1" strike="noStrike">
                <a:solidFill>
                  <a:srgbClr val="336600"/>
                </a:solidFill>
                <a:latin typeface="Comic Sans MS"/>
              </a:rPr>
              <a:t>grandpa</a:t>
            </a:r>
            <a:r>
              <a:rPr b="0" lang="zh-TW" sz="2000" spc="-1" strike="noStrike">
                <a:solidFill>
                  <a:srgbClr val="9933ff"/>
                </a:solidFill>
                <a:latin typeface="Comic Sans MS"/>
              </a:rPr>
              <a:t> tomorrow</a:t>
            </a:r>
            <a:r>
              <a:rPr b="0" lang="zh-TW" sz="2000" spc="-1" strike="noStrike">
                <a:solidFill>
                  <a:srgbClr val="cc3399"/>
                </a:solidFill>
                <a:latin typeface="Comic Sans MS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788000" y="2682720"/>
            <a:ext cx="3598920" cy="3402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4067280" y="692280"/>
            <a:ext cx="0" cy="46083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98920" y="1123920"/>
            <a:ext cx="0" cy="46087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0920" y="1555920"/>
            <a:ext cx="0" cy="46083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62560" y="1987560"/>
            <a:ext cx="0" cy="46083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8360" y="4581360"/>
            <a:ext cx="4248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00000" y="5013360"/>
            <a:ext cx="424836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332000" y="5445000"/>
            <a:ext cx="4248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63640" y="5877000"/>
            <a:ext cx="424836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195640" y="6308640"/>
            <a:ext cx="4248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5753160" y="3141720"/>
            <a:ext cx="1698480" cy="2016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1417680" cy="221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08000" y="3933720"/>
            <a:ext cx="4248000" cy="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211640" y="1052640"/>
            <a:ext cx="4608360" cy="5184720"/>
          </a:xfrm>
          <a:custGeom>
            <a:avLst/>
            <a:gdLst>
              <a:gd name="textAreaLeft" fmla="*/ 0 w 4608360"/>
              <a:gd name="textAreaRight" fmla="*/ 4608720 w 4608360"/>
              <a:gd name="textAreaTop" fmla="*/ 672120 h 5184720"/>
              <a:gd name="textAreaBottom" fmla="*/ 4512600 h 5184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9900"/>
                </a:solidFill>
                <a:latin typeface="Comic Sans MS"/>
              </a:rPr>
              <a:t>Good idea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33ff"/>
                </a:solidFill>
                <a:latin typeface="Comic Sans MS"/>
              </a:rPr>
              <a:t>I’m sure grandpa</a:t>
            </a:r>
            <a:r>
              <a:rPr b="0" lang="zh-TW" sz="2800" spc="-1" strike="noStrike">
                <a:solidFill>
                  <a:srgbClr val="333300"/>
                </a:solidFill>
                <a:latin typeface="Comic Sans MS"/>
              </a:rPr>
              <a:t> would like to meet </a:t>
            </a:r>
            <a:r>
              <a:rPr b="0" lang="zh-TW" sz="2800" spc="-1" strike="noStrike">
                <a:solidFill>
                  <a:srgbClr val="990000"/>
                </a:solidFill>
                <a:latin typeface="Comic Sans MS"/>
              </a:rPr>
              <a:t>Fei Fei</a:t>
            </a:r>
            <a:r>
              <a:rPr b="0" lang="zh-TW" sz="2800" spc="-1" strike="noStrike">
                <a:solidFill>
                  <a:srgbClr val="3333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96000" y="2349360"/>
            <a:ext cx="4248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26920" y="333360"/>
            <a:ext cx="0" cy="6120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92360" y="1916280"/>
            <a:ext cx="0" cy="47527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604360" y="333360"/>
            <a:ext cx="0" cy="61200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2303640" cy="28065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971640" y="4797360"/>
            <a:ext cx="424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35280" y="5661000"/>
            <a:ext cx="4248000" cy="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98920" y="6524640"/>
            <a:ext cx="424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08000" y="3933720"/>
            <a:ext cx="424800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32000" y="2276640"/>
            <a:ext cx="4248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6920" y="333360"/>
            <a:ext cx="0" cy="6120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2360" y="1916280"/>
            <a:ext cx="0" cy="47527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708360" y="4941720"/>
            <a:ext cx="4248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003640" y="4221000"/>
            <a:ext cx="33134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451640" y="1989000"/>
            <a:ext cx="0" cy="44643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317080" y="333360"/>
            <a:ext cx="0" cy="61200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427640" y="3429000"/>
            <a:ext cx="3313080" cy="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484360" y="5013360"/>
            <a:ext cx="682560" cy="6681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5580000" y="3573360"/>
            <a:ext cx="1417680" cy="2217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 rot="19178400">
            <a:off x="6026040" y="4090680"/>
            <a:ext cx="26064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3635280" y="4365720"/>
            <a:ext cx="927360" cy="12952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3564000" y="4227480"/>
            <a:ext cx="1079280" cy="1511280"/>
          </a:xfrm>
          <a:prstGeom prst="rect">
            <a:avLst/>
          </a:prstGeom>
          <a:solidFill>
            <a:srgbClr val="ffff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0" y="92160"/>
            <a:ext cx="3456000" cy="30495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0" y="0"/>
            <a:ext cx="3456000" cy="3168720"/>
          </a:xfrm>
          <a:prstGeom prst="rect">
            <a:avLst/>
          </a:prstGeom>
          <a:solidFill>
            <a:srgbClr val="ffff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24000" y="549360"/>
            <a:ext cx="2663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3200" spc="-1" strike="noStrike">
                <a:solidFill>
                  <a:srgbClr val="ff0066"/>
                </a:solidFill>
                <a:latin typeface="Comic Sans MS"/>
              </a:rPr>
              <a:t>BoBo</a:t>
            </a:r>
            <a:r>
              <a:rPr b="0" i="1" lang="zh-TW" sz="2400" spc="-1" strike="noStrike">
                <a:solidFill>
                  <a:srgbClr val="6600ff"/>
                </a:solidFill>
                <a:latin typeface="Comic Sans MS"/>
              </a:rPr>
              <a:t> pays a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400" spc="-1" strike="noStrike">
                <a:solidFill>
                  <a:srgbClr val="6600ff"/>
                </a:solidFill>
                <a:latin typeface="Comic Sans MS"/>
              </a:rPr>
              <a:t>to his </a:t>
            </a:r>
            <a:r>
              <a:rPr b="0" i="1" lang="zh-TW" sz="3200" spc="-1" strike="noStrike">
                <a:solidFill>
                  <a:srgbClr val="cc3300"/>
                </a:solidFill>
                <a:latin typeface="Comic Sans MS"/>
              </a:rPr>
              <a:t>grandpa</a:t>
            </a:r>
            <a:r>
              <a:rPr b="0" i="1" lang="zh-TW" sz="2400" spc="-1" strike="noStrike">
                <a:solidFill>
                  <a:srgbClr val="6600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92680" y="1851120"/>
            <a:ext cx="26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Comic Sans MS"/>
              </a:rPr>
              <a:t>Grandpa lives</a:t>
            </a:r>
            <a:r>
              <a:rPr b="0" i="1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00ff"/>
                </a:solidFill>
                <a:latin typeface="Comic Sans MS"/>
              </a:rPr>
              <a:t>i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ff"/>
                </a:solidFill>
                <a:latin typeface="Comic Sans MS"/>
              </a:rPr>
              <a:t>home for the elde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eed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437080" y="1341360"/>
            <a:ext cx="2448000" cy="4608720"/>
          </a:xfrm>
          <a:prstGeom prst="flowChartPredefinedProcess">
            <a:avLst/>
          </a:prstGeom>
          <a:solidFill>
            <a:srgbClr val="339966"/>
          </a:solidFill>
          <a:ln w="63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03640" y="6021360"/>
            <a:ext cx="331344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63640" y="4005360"/>
            <a:ext cx="1728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ff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003640" y="1268280"/>
            <a:ext cx="331344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003640" y="1063800"/>
            <a:ext cx="33134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003640" y="6237360"/>
            <a:ext cx="33134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5867280" y="4049640"/>
            <a:ext cx="1576440" cy="18716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572000" cy="2448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900000" y="739800"/>
            <a:ext cx="26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Grandpa</a:t>
            </a:r>
            <a:r>
              <a:rPr b="0" lang="zh-TW" sz="1800" spc="-1" strike="noStrike">
                <a:solidFill>
                  <a:srgbClr val="6600ff"/>
                </a:solidFill>
                <a:latin typeface="Arial"/>
              </a:rPr>
              <a:t> and his </a:t>
            </a:r>
            <a:r>
              <a:rPr b="0" lang="zh-TW" sz="2400" spc="-1" strike="noStrike">
                <a:solidFill>
                  <a:srgbClr val="cc00ff"/>
                </a:solidFill>
                <a:latin typeface="Arial"/>
              </a:rPr>
              <a:t>friends </a:t>
            </a:r>
            <a:r>
              <a:rPr b="0" lang="zh-TW" sz="1800" spc="-1" strike="noStrike">
                <a:solidFill>
                  <a:srgbClr val="6600ff"/>
                </a:solidFill>
                <a:latin typeface="Arial"/>
              </a:rPr>
              <a:t>like to see 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Fei Fe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26920" y="3716280"/>
            <a:ext cx="3816360" cy="1871640"/>
          </a:xfrm>
          <a:prstGeom prst="wedgeEllipseCallout">
            <a:avLst>
              <a:gd name="adj1" fmla="val 49166"/>
              <a:gd name="adj2" fmla="val -72476"/>
            </a:avLst>
          </a:prstGeom>
          <a:solidFill>
            <a:srgbClr val="00cc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Comic Sans MS"/>
              </a:rPr>
              <a:t>Fei Fei</a:t>
            </a:r>
            <a:r>
              <a:rPr b="1" lang="zh-TW" sz="2800" spc="-1" strike="noStrike">
                <a:solidFill>
                  <a:srgbClr val="6600ff"/>
                </a:solidFill>
                <a:latin typeface="Comic Sans MS"/>
              </a:rPr>
              <a:t> br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ff"/>
                </a:solidFill>
                <a:latin typeface="Comic Sans MS"/>
              </a:rPr>
              <a:t>  </a:t>
            </a:r>
            <a:r>
              <a:rPr b="1" lang="zh-TW" sz="2800" spc="-1" strike="noStrike">
                <a:solidFill>
                  <a:srgbClr val="cc3300"/>
                </a:solidFill>
                <a:latin typeface="Comic Sans MS"/>
              </a:rPr>
              <a:t>happ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ff"/>
                </a:solidFill>
                <a:latin typeface="Comic Sans MS"/>
              </a:rPr>
              <a:t>   </a:t>
            </a:r>
            <a:r>
              <a:rPr b="1" lang="zh-TW" sz="2800" spc="-1" strike="noStrike">
                <a:solidFill>
                  <a:srgbClr val="6600ff"/>
                </a:solidFill>
                <a:latin typeface="Comic Sans MS"/>
              </a:rPr>
              <a:t>to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5640" y="5137200"/>
            <a:ext cx="216000" cy="21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11280" y="3357720"/>
            <a:ext cx="216000" cy="215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635280" y="5661000"/>
            <a:ext cx="216000" cy="21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788000" y="4386240"/>
            <a:ext cx="215640" cy="21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43280" y="3357720"/>
            <a:ext cx="216000" cy="215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87280" y="5516640"/>
            <a:ext cx="216000" cy="21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979640" y="3357720"/>
            <a:ext cx="216000" cy="215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643280" y="4076640"/>
            <a:ext cx="216000" cy="21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16000" y="3645000"/>
            <a:ext cx="216000" cy="215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9640" y="4653000"/>
            <a:ext cx="216000" cy="21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27640" y="3789360"/>
            <a:ext cx="215640" cy="21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547640" y="3500280"/>
            <a:ext cx="216000" cy="21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03640" y="3357720"/>
            <a:ext cx="216000" cy="215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24000" y="5734080"/>
            <a:ext cx="216000" cy="21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635280" y="3284640"/>
            <a:ext cx="216000" cy="215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67280" y="5445000"/>
            <a:ext cx="215640" cy="21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27640" y="5229360"/>
            <a:ext cx="215640" cy="215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26920" y="3860640"/>
            <a:ext cx="216000" cy="21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92360" y="5661000"/>
            <a:ext cx="215640" cy="21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716360" y="4797360"/>
            <a:ext cx="216000" cy="21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40" y="4221000"/>
            <a:ext cx="216000" cy="21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556000" y="5805360"/>
            <a:ext cx="215640" cy="21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995640" y="3141720"/>
            <a:ext cx="216000" cy="21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059280" y="5805360"/>
            <a:ext cx="215640" cy="21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250" autoRev="1" fill="hold"/>
                                        <p:tgtEl>
                                          <p:spTgt spid="3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250" autoRev="1" fill="hold"/>
                                        <p:tgtEl>
                                          <p:spTgt spid="3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250" autoRev="1" fill="hold"/>
                                        <p:tgtEl>
                                          <p:spTgt spid="3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250" autoRev="1" fill="hold"/>
                                        <p:tgtEl>
                                          <p:spTgt spid="3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250" autoRev="1" fill="hold"/>
                                        <p:tgtEl>
                                          <p:spTgt spid="3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250" autoRev="1" fill="hold"/>
                                        <p:tgtEl>
                                          <p:spTgt spid="3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250" autoRev="1" fill="hold"/>
                                        <p:tgtEl>
                                          <p:spTgt spid="3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250" autoRev="1" fill="hold"/>
                                        <p:tgtEl>
                                          <p:spTgt spid="3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250" autoRev="1" fill="hold"/>
                                        <p:tgtEl>
                                          <p:spTgt spid="3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250" autoRev="1" fill="hold"/>
                                        <p:tgtEl>
                                          <p:spTgt spid="3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250" autoRev="1" fill="hold"/>
                                        <p:tgtEl>
                                          <p:spTgt spid="3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250" autoRev="1" fill="hold"/>
                                        <p:tgtEl>
                                          <p:spTgt spid="3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250" autoRev="1" fill="hold"/>
                                        <p:tgtEl>
                                          <p:spTgt spid="3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3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250" autoRev="1" fill="hold"/>
                                        <p:tgtEl>
                                          <p:spTgt spid="3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3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250" autoRev="1" fill="hold"/>
                                        <p:tgtEl>
                                          <p:spTgt spid="3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250" autoRev="1" fill="hold"/>
                                        <p:tgtEl>
                                          <p:spTgt spid="3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250" autoRev="1" fill="hold"/>
                                        <p:tgtEl>
                                          <p:spTgt spid="3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250" autoRev="1" fill="hold"/>
                                        <p:tgtEl>
                                          <p:spTgt spid="3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250" autoRev="1" fill="hold"/>
                                        <p:tgtEl>
                                          <p:spTgt spid="3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250" autoRev="1" fill="hold"/>
                                        <p:tgtEl>
                                          <p:spTgt spid="3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957240" y="463680"/>
            <a:ext cx="2200320" cy="20383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sp>
        <p:nvSpPr>
          <p:cNvPr id="354" name=""/>
          <p:cNvSpPr/>
          <p:nvPr/>
        </p:nvSpPr>
        <p:spPr>
          <a:xfrm>
            <a:off x="826920" y="333360"/>
            <a:ext cx="2592720" cy="2232000"/>
          </a:xfrm>
          <a:prstGeom prst="rect">
            <a:avLst/>
          </a:prstGeom>
          <a:solidFill>
            <a:srgbClr val="ffff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977760" y="2852640"/>
            <a:ext cx="2824200" cy="324036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356" name=""/>
          <p:cNvSpPr/>
          <p:nvPr/>
        </p:nvSpPr>
        <p:spPr>
          <a:xfrm>
            <a:off x="973080" y="2781360"/>
            <a:ext cx="2951280" cy="3311640"/>
          </a:xfrm>
          <a:prstGeom prst="rect">
            <a:avLst/>
          </a:prstGeom>
          <a:solidFill>
            <a:srgbClr val="ffff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>
            <a:alphaModFix amt="38000"/>
          </a:blip>
          <a:stretch/>
        </p:blipFill>
        <p:spPr>
          <a:xfrm>
            <a:off x="3841920" y="3852720"/>
            <a:ext cx="3673440" cy="24480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4716360" y="260280"/>
            <a:ext cx="3600720" cy="3456000"/>
          </a:xfrm>
          <a:prstGeom prst="cloudCallout">
            <a:avLst>
              <a:gd name="adj1" fmla="val -76365"/>
              <a:gd name="adj2" fmla="val 40444"/>
            </a:avLst>
          </a:prstGeom>
          <a:solidFill>
            <a:srgbClr val="ffff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Comic Sans MS"/>
              </a:rPr>
              <a:t>Final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ff"/>
                </a:solidFill>
                <a:latin typeface="Comic Sans MS"/>
              </a:rPr>
              <a:t>Fei Fei</a:t>
            </a:r>
            <a:r>
              <a:rPr b="1" lang="zh-TW" sz="3200" spc="-1" strike="noStrike">
                <a:solidFill>
                  <a:srgbClr val="800080"/>
                </a:solidFill>
                <a:latin typeface="Comic Sans MS"/>
              </a:rPr>
              <a:t> becomes a </a:t>
            </a:r>
            <a:r>
              <a:rPr b="1" lang="zh-TW" sz="3200" spc="-1" strike="noStrike">
                <a:solidFill>
                  <a:srgbClr val="ff3300"/>
                </a:solidFill>
                <a:latin typeface="Comic Sans MS"/>
              </a:rPr>
              <a:t>doctor dog</a:t>
            </a:r>
            <a:r>
              <a:rPr b="1" lang="zh-TW" sz="32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79880" y="671400"/>
            <a:ext cx="49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9933ff"/>
                </a:solidFill>
                <a:latin typeface="Comic Sans MS"/>
              </a:rPr>
              <a:t>BoBo</a:t>
            </a:r>
            <a:r>
              <a:rPr b="0" lang="zh-TW" sz="2800" spc="-1" strike="noStrike">
                <a:solidFill>
                  <a:srgbClr val="9933ff"/>
                </a:solidFill>
                <a:latin typeface="Comic Sans MS"/>
              </a:rPr>
              <a:t>                      </a:t>
            </a:r>
            <a:r>
              <a:rPr b="0" lang="zh-TW" sz="3600" spc="-1" strike="noStrike">
                <a:solidFill>
                  <a:srgbClr val="339933"/>
                </a:solidFill>
                <a:latin typeface="Comic Sans MS"/>
              </a:rPr>
              <a:t>loves</a:t>
            </a:r>
            <a:r>
              <a:rPr b="0" lang="zh-TW" sz="2800" spc="-1" strike="noStrike">
                <a:solidFill>
                  <a:srgbClr val="9933ff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33ff"/>
                </a:solidFill>
                <a:latin typeface="Comic Sans MS"/>
              </a:rPr>
              <a:t>                        </a:t>
            </a:r>
            <a:r>
              <a:rPr b="0" lang="zh-TW" sz="4000" spc="-1" strike="noStrike">
                <a:solidFill>
                  <a:srgbClr val="cc00cc"/>
                </a:solidFill>
                <a:latin typeface="Comic Sans MS"/>
              </a:rPr>
              <a:t>reading</a:t>
            </a:r>
            <a:r>
              <a:rPr b="0" lang="zh-TW" sz="2800" spc="-1" strike="noStrike">
                <a:solidFill>
                  <a:srgbClr val="9933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3888000" cy="3235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08000" y="404640"/>
            <a:ext cx="1584360" cy="1295640"/>
          </a:xfrm>
          <a:custGeom>
            <a:avLst/>
            <a:gdLst>
              <a:gd name="textAreaLeft" fmla="*/ 372240 w 1584360"/>
              <a:gd name="textAreaRight" fmla="*/ 1211040 w 1584360"/>
              <a:gd name="textAreaTop" fmla="*/ 152280 h 1295640"/>
              <a:gd name="textAreaBottom" fmla="*/ 812880 h 129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51640" y="2852640"/>
            <a:ext cx="34923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9933ff"/>
                </a:solidFill>
                <a:latin typeface="Comic Sans MS"/>
              </a:rPr>
              <a:t>BoB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33ff"/>
                </a:solidFill>
                <a:latin typeface="Comic Sans MS"/>
              </a:rPr>
              <a:t>   </a:t>
            </a:r>
            <a:r>
              <a:rPr b="0" lang="zh-TW" sz="4000" spc="-1" strike="noStrike">
                <a:solidFill>
                  <a:srgbClr val="ff0000"/>
                </a:solidFill>
                <a:latin typeface="Comic Sans MS"/>
              </a:rPr>
              <a:t>loves</a:t>
            </a:r>
            <a:r>
              <a:rPr b="0" lang="zh-TW" sz="2800" spc="-1" strike="noStrike">
                <a:solidFill>
                  <a:srgbClr val="9933ff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9933ff"/>
                </a:solidFill>
                <a:latin typeface="Comic Sans MS"/>
              </a:rPr>
              <a:t>    </a:t>
            </a:r>
            <a:r>
              <a:rPr b="0" lang="zh-TW" sz="5400" spc="-1" strike="noStrike">
                <a:solidFill>
                  <a:srgbClr val="9933ff"/>
                </a:solidFill>
                <a:latin typeface="Comic Sans MS"/>
              </a:rPr>
              <a:t>anim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33ff"/>
                </a:solidFill>
                <a:latin typeface="Comic Sans MS"/>
              </a:rPr>
              <a:t>              </a:t>
            </a:r>
            <a:r>
              <a:rPr b="0" lang="zh-TW" sz="4800" spc="-1" strike="noStrike">
                <a:solidFill>
                  <a:srgbClr val="800000"/>
                </a:solidFill>
                <a:latin typeface="Comic Sans MS"/>
              </a:rPr>
              <a:t>too</a:t>
            </a:r>
            <a:r>
              <a:rPr b="0" lang="zh-TW" sz="2800" spc="-1" strike="noStrike">
                <a:solidFill>
                  <a:srgbClr val="9933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708360" y="2398680"/>
            <a:ext cx="1028880" cy="986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0000" y="537372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15772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537372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537372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2421000"/>
            <a:ext cx="1152720" cy="136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43280" y="2421000"/>
            <a:ext cx="792000" cy="93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371628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00536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458136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0920" y="537372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537372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5516640"/>
            <a:ext cx="1728720" cy="93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17840" y="53514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56000" y="4437000"/>
            <a:ext cx="576360" cy="647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35280" y="335772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92360" y="357336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00360" y="2852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27280" y="2276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35280" y="2276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63640" y="278136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27280" y="32130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56000" y="3500280"/>
            <a:ext cx="288720" cy="289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33066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64000" y="2349360"/>
            <a:ext cx="288720" cy="289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2276640"/>
            <a:ext cx="289080" cy="288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40360" y="3390840"/>
            <a:ext cx="288720" cy="2174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00720" y="537372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08000" y="3284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48360" y="4005360"/>
            <a:ext cx="1944720" cy="2160360"/>
          </a:xfrm>
          <a:prstGeom prst="rtTriangle">
            <a:avLst/>
          </a:prstGeom>
          <a:gradFill rotWithShape="0">
            <a:gsLst>
              <a:gs pos="0">
                <a:srgbClr val="ffffff">
                  <a:alpha val="76078"/>
                </a:srgbClr>
              </a:gs>
              <a:gs pos="100000">
                <a:srgbClr val="ff0000">
                  <a:alpha val="98039"/>
                </a:srgbClr>
              </a:gs>
            </a:gsLst>
            <a:lin ang="81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653800">
            <a:off x="3850920" y="5950080"/>
            <a:ext cx="865080" cy="431640"/>
          </a:xfrm>
          <a:prstGeom prst="flowChartMagneticDrum">
            <a:avLst/>
          </a:pr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48000"/>
          </a:gra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492280"/>
            <a:ext cx="936720" cy="1152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1382800">
            <a:off x="2771640" y="5949720"/>
            <a:ext cx="865440" cy="431640"/>
          </a:xfrm>
          <a:prstGeom prst="flowChartMagneticDrum">
            <a:avLst/>
          </a:prstGeom>
          <a:solidFill>
            <a:srgbClr val="99cc00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06920" y="4869000"/>
            <a:ext cx="720720" cy="86364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537372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916280"/>
            <a:ext cx="4392720" cy="3817800"/>
          </a:xfrm>
          <a:prstGeom prst="rect">
            <a:avLst/>
          </a:prstGeom>
          <a:solidFill>
            <a:srgbClr val="ffff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157480" cy="1751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9280" y="189000"/>
            <a:ext cx="69138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9933ff"/>
                </a:solidFill>
                <a:latin typeface="Comic Sans MS"/>
              </a:rPr>
              <a:t>BoBo</a:t>
            </a:r>
            <a:r>
              <a:rPr b="0" lang="zh-TW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Comic Sans MS"/>
              </a:rPr>
              <a:t>enjoys </a:t>
            </a:r>
            <a:r>
              <a:rPr b="0" lang="zh-TW" sz="4400" spc="-1" strike="noStrike">
                <a:solidFill>
                  <a:srgbClr val="008080"/>
                </a:solidFill>
                <a:latin typeface="Comic Sans MS"/>
              </a:rPr>
              <a:t>going</a:t>
            </a:r>
            <a:r>
              <a:rPr b="0" lang="zh-TW" sz="4400" spc="-1" strike="noStrike">
                <a:solidFill>
                  <a:srgbClr val="ff0000"/>
                </a:solidFill>
                <a:latin typeface="Comic Sans MS"/>
              </a:rPr>
              <a:t> to the </a:t>
            </a:r>
            <a:r>
              <a:rPr b="0" lang="zh-TW" sz="5400" spc="-1" strike="noStrike">
                <a:solidFill>
                  <a:srgbClr val="3333ff"/>
                </a:solidFill>
                <a:latin typeface="Comic Sans MS"/>
              </a:rPr>
              <a:t>z    </a:t>
            </a:r>
            <a:r>
              <a:rPr b="0" lang="zh-TW" sz="44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3716280"/>
            <a:ext cx="2162160" cy="2536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867280" y="4287960"/>
            <a:ext cx="2881440" cy="1944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987640" y="4183200"/>
            <a:ext cx="2592360" cy="2052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987640" y="1844640"/>
            <a:ext cx="2592360" cy="2232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7020000" y="260280"/>
            <a:ext cx="1797120" cy="1235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5867280" y="1844640"/>
            <a:ext cx="2881440" cy="2232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796000" y="119700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27640" y="119700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1979640" y="115920"/>
            <a:ext cx="600120" cy="896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7fe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3451320"/>
            <a:ext cx="2879640" cy="1512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603760" y="549360"/>
            <a:ext cx="3216240" cy="244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348000" y="4960800"/>
            <a:ext cx="2519280" cy="1347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68360" y="4960800"/>
            <a:ext cx="3022560" cy="1347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68360" y="3427560"/>
            <a:ext cx="5398920" cy="2881080"/>
          </a:xfrm>
          <a:prstGeom prst="rect">
            <a:avLst/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959200" y="3451320"/>
            <a:ext cx="2879640" cy="1512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36720" y="569880"/>
            <a:ext cx="4572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9966ff"/>
                </a:solidFill>
                <a:latin typeface="Comic Sans MS"/>
              </a:rPr>
              <a:t>BoBo</a:t>
            </a:r>
            <a:r>
              <a:rPr b="0" lang="zh-TW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zh-TW" sz="4400" spc="-1" strike="noStrike">
                <a:solidFill>
                  <a:srgbClr val="cc3399"/>
                </a:solidFill>
                <a:latin typeface="Comic Sans MS"/>
              </a:rPr>
              <a:t>feels</a:t>
            </a:r>
            <a:r>
              <a:rPr b="0" lang="zh-TW" sz="4400" spc="-1" strike="noStrike">
                <a:solidFill>
                  <a:srgbClr val="ff0000"/>
                </a:solidFill>
                <a:latin typeface="Comic Sans MS"/>
              </a:rPr>
              <a:t>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Comic Sans MS"/>
              </a:rPr>
              <a:t>             </a:t>
            </a:r>
            <a:r>
              <a:rPr b="0" lang="zh-TW" sz="4400" spc="-1" strike="noStrike">
                <a:solidFill>
                  <a:srgbClr val="cc3399"/>
                </a:solidFill>
                <a:latin typeface="Comic Sans MS"/>
              </a:rPr>
              <a:t>at the</a:t>
            </a:r>
            <a:r>
              <a:rPr b="0" lang="zh-TW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zh-TW" sz="4400" spc="-1" strike="noStrike">
                <a:solidFill>
                  <a:srgbClr val="6666ff"/>
                </a:solidFill>
                <a:latin typeface="Comic Sans MS"/>
              </a:rPr>
              <a:t>Ocean Park</a:t>
            </a:r>
            <a:r>
              <a:rPr b="0" lang="zh-TW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3800" y="1455840"/>
            <a:ext cx="201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x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 rot="20377800">
            <a:off x="271080" y="639360"/>
            <a:ext cx="5124600" cy="2703600"/>
          </a:xfrm>
          <a:custGeom>
            <a:avLst/>
            <a:gdLst>
              <a:gd name="textAreaLeft" fmla="*/ 0 w 5124600"/>
              <a:gd name="textAreaRight" fmla="*/ 5124960 w 5124600"/>
              <a:gd name="textAreaTop" fmla="*/ 350280 h 2703600"/>
              <a:gd name="textAreaBottom" fmla="*/ 2353320 h 2703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ff"/>
                </a:solidFill>
                <a:latin typeface="Comic Sans MS"/>
              </a:rPr>
              <a:t>BoBo</a:t>
            </a:r>
            <a:r>
              <a:rPr b="0" lang="zh-TW" sz="4400" spc="-1" strike="noStrike">
                <a:solidFill>
                  <a:srgbClr val="660033"/>
                </a:solidFill>
                <a:latin typeface="Comic Sans MS"/>
              </a:rPr>
              <a:t> is a good </a:t>
            </a:r>
            <a:r>
              <a:rPr b="0" lang="zh-TW" sz="4400" spc="-1" strike="noStrike">
                <a:solidFill>
                  <a:srgbClr val="9933ff"/>
                </a:solidFill>
                <a:latin typeface="Comic Sans MS"/>
              </a:rPr>
              <a:t>boy</a:t>
            </a:r>
            <a:r>
              <a:rPr b="0" lang="zh-TW" sz="4400" spc="-1" strike="noStrike">
                <a:solidFill>
                  <a:srgbClr val="660033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ff"/>
                </a:solidFill>
                <a:latin typeface="Comic Sans MS"/>
              </a:rPr>
              <a:t>He</a:t>
            </a:r>
            <a:r>
              <a:rPr b="0" lang="zh-TW" sz="4400" spc="-1" strike="noStrike">
                <a:solidFill>
                  <a:srgbClr val="660033"/>
                </a:solidFill>
                <a:latin typeface="Comic Sans MS"/>
              </a:rPr>
              <a:t> studies </a:t>
            </a:r>
            <a:r>
              <a:rPr b="0" lang="zh-TW" sz="4400" spc="-1" strike="noStrike">
                <a:solidFill>
                  <a:srgbClr val="008000"/>
                </a:solidFill>
                <a:latin typeface="Comic Sans MS"/>
              </a:rPr>
              <a:t>hard</a:t>
            </a:r>
            <a:r>
              <a:rPr b="0" lang="zh-TW" sz="4400" spc="-1" strike="noStrike">
                <a:solidFill>
                  <a:srgbClr val="660033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19280" y="4025880"/>
            <a:ext cx="3598920" cy="2281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724360" y="3068640"/>
            <a:ext cx="2519640" cy="2062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732720" y="2563920"/>
            <a:ext cx="18000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292428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08720" y="479592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4363920"/>
            <a:ext cx="79236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64360" y="4508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4360" y="479592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4360" y="357192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51640" y="350028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28000" y="34290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787920"/>
            <a:ext cx="7920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19280" y="3860640"/>
            <a:ext cx="187308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1280" y="479592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32360" y="400356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03640" y="4292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95640" y="60930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6237360"/>
            <a:ext cx="237636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76360" y="4076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32360" y="60930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90880" y="5084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11280" y="4076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400536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4508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3284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516720" y="1125360"/>
            <a:ext cx="1368360" cy="1338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524720" y="9810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27640" y="981000"/>
            <a:ext cx="57636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72360" y="2060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24360" y="3860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3860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76720" y="4508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472428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03280" y="4292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40720" y="11970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88000" y="22050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20000" y="34290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292428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43640" y="234936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59480" y="299736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40720" y="335772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56720" y="34290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51640" y="501336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08720" y="46530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97720" y="283212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172360" y="357336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47120" y="340848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36000" y="4724280"/>
            <a:ext cx="360360" cy="474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52880" y="4076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90792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80360" y="9810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740720" y="155736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67640" y="134136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96360" y="11970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67640" y="2276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62640" y="1844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58920" y="4005360"/>
            <a:ext cx="4392720" cy="2665440"/>
          </a:xfrm>
          <a:prstGeom prst="rect">
            <a:avLst/>
          </a:prstGeom>
          <a:solidFill>
            <a:srgbClr val="ffff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80000" y="2852640"/>
            <a:ext cx="3313080" cy="2665440"/>
          </a:xfrm>
          <a:prstGeom prst="rect">
            <a:avLst/>
          </a:prstGeom>
          <a:solidFill>
            <a:srgbClr val="ffff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12000" y="836640"/>
            <a:ext cx="2484360" cy="1944720"/>
          </a:xfrm>
          <a:prstGeom prst="rect">
            <a:avLst/>
          </a:prstGeom>
          <a:solidFill>
            <a:srgbClr val="ffff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e5e5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00720" y="333360"/>
            <a:ext cx="4032000" cy="2521080"/>
          </a:xfrm>
          <a:prstGeom prst="cloudCallout">
            <a:avLst>
              <a:gd name="adj1" fmla="val -45986"/>
              <a:gd name="adj2" fmla="val 66500"/>
            </a:avLst>
          </a:prstGeom>
          <a:solidFill>
            <a:srgbClr val="ff99cc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5640" y="243000"/>
            <a:ext cx="34344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ff"/>
                </a:solidFill>
                <a:latin typeface="Comic Sans MS"/>
              </a:rPr>
              <a:t>BoBo</a:t>
            </a:r>
            <a:r>
              <a:rPr b="1" lang="zh-TW" sz="36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lang="zh-TW" sz="3600" spc="-1" strike="noStrike">
                <a:solidFill>
                  <a:srgbClr val="6600ff"/>
                </a:solidFill>
                <a:latin typeface="Comic Sans MS"/>
              </a:rPr>
              <a:t>alway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00"/>
                </a:solidFill>
                <a:latin typeface="Comic Sans MS"/>
              </a:rPr>
              <a:t>dreams</a:t>
            </a:r>
            <a:r>
              <a:rPr b="1" lang="zh-TW" sz="3600" spc="-1" strike="noStrike">
                <a:solidFill>
                  <a:srgbClr val="6600ff"/>
                </a:solidFill>
                <a:latin typeface="Comic Sans MS"/>
              </a:rPr>
              <a:t>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00ff"/>
                </a:solidFill>
                <a:latin typeface="Comic Sans MS"/>
              </a:rPr>
              <a:t>keeping a </a:t>
            </a:r>
            <a:r>
              <a:rPr b="1" lang="zh-TW" sz="3600" spc="-1" strike="noStrike">
                <a:solidFill>
                  <a:srgbClr val="669900"/>
                </a:solidFill>
                <a:latin typeface="Comic Sans MS"/>
              </a:rPr>
              <a:t>pet</a:t>
            </a:r>
            <a:r>
              <a:rPr b="1" lang="zh-TW" sz="3600" spc="-1" strike="noStrike">
                <a:solidFill>
                  <a:srgbClr val="6600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435640" y="981000"/>
            <a:ext cx="892080" cy="1386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588000" y="692280"/>
            <a:ext cx="1014480" cy="1224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627280" y="3357720"/>
            <a:ext cx="1843200" cy="273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ede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95280" y="2708280"/>
            <a:ext cx="2521080" cy="2233440"/>
          </a:xfrm>
          <a:prstGeom prst="wedgeRoundRectCallout">
            <a:avLst>
              <a:gd name="adj1" fmla="val 78587"/>
              <a:gd name="adj2" fmla="val 28462"/>
              <a:gd name="adj3" fmla="val 16667"/>
            </a:avLst>
          </a:prstGeom>
          <a:solidFill>
            <a:srgbClr val="bbe0e3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00ff"/>
                </a:solidFill>
                <a:latin typeface="Comic Sans MS"/>
              </a:rPr>
              <a:t> “</a:t>
            </a:r>
            <a:r>
              <a:rPr b="0" lang="zh-TW" sz="3200" spc="-1" strike="noStrike">
                <a:solidFill>
                  <a:srgbClr val="000099"/>
                </a:solidFill>
                <a:latin typeface="Comic Sans MS"/>
              </a:rPr>
              <a:t>Mum</a:t>
            </a:r>
            <a:r>
              <a:rPr b="0" lang="zh-TW" sz="3200" spc="-1" strike="noStrike">
                <a:solidFill>
                  <a:srgbClr val="6600ff"/>
                </a:solidFill>
                <a:latin typeface="Comic Sans MS"/>
              </a:rPr>
              <a:t>, </a:t>
            </a:r>
            <a:r>
              <a:rPr b="0" lang="zh-TW" sz="3200" spc="-1" strike="noStrike">
                <a:solidFill>
                  <a:srgbClr val="669900"/>
                </a:solidFill>
                <a:latin typeface="Comic Sans MS"/>
              </a:rPr>
              <a:t>could you buy me a</a:t>
            </a:r>
            <a:r>
              <a:rPr b="0" lang="zh-TW" sz="32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0" lang="zh-TW" sz="3200" spc="-1" strike="noStrike">
                <a:solidFill>
                  <a:srgbClr val="003366"/>
                </a:solidFill>
                <a:latin typeface="Comic Sans MS"/>
              </a:rPr>
              <a:t>pet</a:t>
            </a:r>
            <a:r>
              <a:rPr b="0" lang="zh-TW" sz="3200" spc="-1" strike="noStrike">
                <a:solidFill>
                  <a:srgbClr val="6600ff"/>
                </a:solidFill>
                <a:latin typeface="Comic Sans MS"/>
              </a:rPr>
              <a:t> 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8840" cy="3166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884760" y="3213000"/>
            <a:ext cx="1496880" cy="26384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796000" y="3500280"/>
            <a:ext cx="2808360" cy="2953080"/>
          </a:xfrm>
          <a:prstGeom prst="wedgeEllipseCallout">
            <a:avLst>
              <a:gd name="adj1" fmla="val 40388"/>
              <a:gd name="adj2" fmla="val -57740"/>
            </a:avLst>
          </a:prstGeom>
          <a:gradFill rotWithShape="0">
            <a:gsLst>
              <a:gs pos="0">
                <a:srgbClr val="dbfed0"/>
              </a:gs>
              <a:gs pos="100000">
                <a:srgbClr val="66ff33"/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Yes, su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What 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pet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 would you like 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308000" y="2448000"/>
            <a:ext cx="36036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6040" y="217440"/>
            <a:ext cx="48016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cc0000"/>
                </a:solidFill>
                <a:latin typeface="Impact"/>
              </a:rPr>
              <a:t>One day</a:t>
            </a:r>
            <a:r>
              <a:rPr b="0" lang="zh-TW" sz="4000" spc="-1" strike="noStrike">
                <a:solidFill>
                  <a:srgbClr val="6600ff"/>
                </a:solidFill>
                <a:latin typeface="Impact"/>
              </a:rPr>
              <a:t>, </a:t>
            </a:r>
            <a:r>
              <a:rPr b="0" lang="zh-TW" sz="5400" spc="-1" strike="noStrike">
                <a:solidFill>
                  <a:srgbClr val="cc0099"/>
                </a:solidFill>
                <a:latin typeface="Impact"/>
              </a:rPr>
              <a:t>BoBo</a:t>
            </a:r>
            <a:r>
              <a:rPr b="0" lang="zh-TW" sz="4000" spc="-1" strike="noStrike">
                <a:solidFill>
                  <a:srgbClr val="6600ff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9933ff"/>
                </a:solidFill>
                <a:latin typeface="Impact"/>
              </a:rPr>
              <a:t>says</a:t>
            </a:r>
            <a:r>
              <a:rPr b="0" lang="zh-TW" sz="4000" spc="-1" strike="noStrike">
                <a:solidFill>
                  <a:srgbClr val="6600ff"/>
                </a:solidFill>
                <a:latin typeface="Impact"/>
              </a:rPr>
              <a:t> to his mo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3066840" cy="3672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5111640" cy="2122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835280" y="692280"/>
            <a:ext cx="2158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hanks! M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I’d lik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a big dog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6731640" y="4508640"/>
            <a:ext cx="1800360" cy="122400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724200" y="2892600"/>
            <a:ext cx="2935440" cy="2560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308720" y="4653000"/>
            <a:ext cx="578160" cy="576360"/>
          </a:xfrm>
          <a:prstGeom prst="flowChartOr">
            <a:avLst/>
          </a:prstGeom>
          <a:solidFill>
            <a:srgbClr val="ffffff">
              <a:alpha val="68000"/>
            </a:srgbClr>
          </a:solidFill>
          <a:ln w="47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16000" y="2637000"/>
            <a:ext cx="2808360" cy="107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5013360"/>
            <a:ext cx="865080" cy="86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92360" y="5013360"/>
            <a:ext cx="865440" cy="86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19640" y="2492280"/>
            <a:ext cx="865080" cy="865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00720" y="0"/>
            <a:ext cx="1150920" cy="86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11640" y="270828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35280" y="479736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84720" y="515772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40360" y="1890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189000"/>
            <a:ext cx="100800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404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2133720"/>
            <a:ext cx="79200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43280" y="1844640"/>
            <a:ext cx="1081080" cy="6494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24360" y="1890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4360" y="404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22050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08360" y="22050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67280" y="22050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27640" y="2276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03640" y="1700280"/>
            <a:ext cx="792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27640" y="3068640"/>
            <a:ext cx="649440" cy="504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40360" y="278136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278136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0000" y="5157720"/>
            <a:ext cx="576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522936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80000" y="314172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651640" y="26370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24360" y="479736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43640" y="350028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27640" y="4797360"/>
            <a:ext cx="576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92720" y="69228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32000" y="936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1640" y="6308640"/>
            <a:ext cx="2736720" cy="21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2430000" y="5572080"/>
            <a:ext cx="1620720" cy="50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5400000">
            <a:off x="-1099440" y="4995000"/>
            <a:ext cx="2881440" cy="32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88840" y="4964040"/>
            <a:ext cx="2808360" cy="21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59280" y="42210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71640" y="5516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84720" y="2852640"/>
            <a:ext cx="93528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260280"/>
            <a:ext cx="2521080" cy="2737080"/>
          </a:xfrm>
          <a:prstGeom prst="wedgeRoundRectCallout">
            <a:avLst>
              <a:gd name="adj1" fmla="val -2898"/>
              <a:gd name="adj2" fmla="val 67402"/>
              <a:gd name="adj3" fmla="val 16667"/>
            </a:avLst>
          </a:prstGeom>
          <a:solidFill>
            <a:srgbClr val="ffff00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ut….our </a:t>
            </a: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hous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s not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big 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enough for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a big dog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1890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42920" y="335772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46530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11640" y="404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08360" y="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7280" y="2276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11640" y="501336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56000" y="270828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357336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80000" y="32130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71640" y="26370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920" y="26370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8280" y="358308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88000" y="371628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04000" y="393228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92360" y="4508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16720" y="46530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35640" y="5300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67280" y="4941720"/>
            <a:ext cx="576360" cy="432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84720" y="3068640"/>
            <a:ext cx="287640" cy="289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292720" y="1628640"/>
            <a:ext cx="287280" cy="289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32000" y="400536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3640" y="436572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00000" y="5157720"/>
            <a:ext cx="216000" cy="2174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4797360"/>
            <a:ext cx="216000" cy="2174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00000" y="3645000"/>
            <a:ext cx="216000" cy="2174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00000" y="3789360"/>
            <a:ext cx="216000" cy="2174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00000" y="4653000"/>
            <a:ext cx="216000" cy="2174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90640" y="5248440"/>
            <a:ext cx="216000" cy="2174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71640" y="5608800"/>
            <a:ext cx="215640" cy="2174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71640" y="4221000"/>
            <a:ext cx="215640" cy="217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00000" y="5950080"/>
            <a:ext cx="216000" cy="2174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71640" y="6156360"/>
            <a:ext cx="215640" cy="2174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59280" y="765000"/>
            <a:ext cx="216000" cy="217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32440" y="755640"/>
            <a:ext cx="216000" cy="2174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8000" y="2565360"/>
            <a:ext cx="3384360" cy="4103640"/>
          </a:xfrm>
          <a:prstGeom prst="rect">
            <a:avLst/>
          </a:prstGeom>
          <a:solidFill>
            <a:srgbClr val="ffff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8028000" y="189000"/>
            <a:ext cx="708120" cy="8636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</p:spTree>
  </p:cSld>
  <p:transition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f6e6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780000" y="1384200"/>
            <a:ext cx="5038560" cy="47088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4427640" cy="244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23880" y="1027080"/>
            <a:ext cx="436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How about a </a:t>
            </a:r>
            <a:r>
              <a:rPr b="0" lang="en-US" sz="2800" spc="-1" strike="noStrike">
                <a:solidFill>
                  <a:srgbClr val="9933ff"/>
                </a:solidFill>
                <a:latin typeface="Comic Sans MS"/>
              </a:rPr>
              <a:t>small dog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Comic Sans MS"/>
              </a:rPr>
              <a:t>Small dogs look cute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4000" y="3213000"/>
            <a:ext cx="4319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60066"/>
                </a:solidFill>
                <a:latin typeface="Comic Sans MS"/>
              </a:rPr>
              <a:t>The very next day,</a:t>
            </a:r>
            <a:r>
              <a:rPr b="0" lang="zh-TW" sz="3600" spc="-1" strike="noStrike">
                <a:solidFill>
                  <a:srgbClr val="cc3399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99"/>
                </a:solidFill>
                <a:latin typeface="Comic Sans MS"/>
              </a:rPr>
              <a:t>BoBo and his mother</a:t>
            </a:r>
            <a:r>
              <a:rPr b="0" lang="zh-TW" sz="3600" spc="-1" strike="noStrike">
                <a:solidFill>
                  <a:srgbClr val="ff3300"/>
                </a:solidFill>
                <a:latin typeface="Comic Sans MS"/>
              </a:rPr>
              <a:t> bu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3399"/>
                </a:solidFill>
                <a:latin typeface="Comic Sans MS"/>
              </a:rPr>
              <a:t>“</a:t>
            </a:r>
            <a:r>
              <a:rPr b="0" lang="zh-TW" sz="3600" spc="-1" strike="noStrike">
                <a:solidFill>
                  <a:srgbClr val="800000"/>
                </a:solidFill>
                <a:latin typeface="Comic Sans MS"/>
              </a:rPr>
              <a:t>Fei Fei</a:t>
            </a:r>
            <a:r>
              <a:rPr b="0" lang="zh-TW" sz="3600" spc="-1" strike="noStrike">
                <a:solidFill>
                  <a:srgbClr val="cc3399"/>
                </a:solidFill>
                <a:latin typeface="Comic Sans MS"/>
              </a:rPr>
              <a:t>” at a pet sho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333360"/>
            <a:ext cx="0" cy="46083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03640" y="549360"/>
            <a:ext cx="0" cy="4608360"/>
          </a:xfrm>
          <a:prstGeom prst="line">
            <a:avLst/>
          </a:prstGeom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64000" y="1125360"/>
            <a:ext cx="0" cy="460872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51640" y="981000"/>
            <a:ext cx="0" cy="4608720"/>
          </a:xfrm>
          <a:prstGeom prst="line">
            <a:avLst/>
          </a:prstGeom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812000" y="404640"/>
            <a:ext cx="0" cy="460872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44000" y="620640"/>
            <a:ext cx="0" cy="4608720"/>
          </a:xfrm>
          <a:prstGeom prst="line">
            <a:avLst/>
          </a:prstGeom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675640" y="836640"/>
            <a:ext cx="0" cy="46083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5610240" y="1844640"/>
            <a:ext cx="1698480" cy="201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2:50:23Z</dcterms:created>
  <dc:creator>profileadm</dc:creator>
  <dc:description/>
  <dc:language>en-US</dc:language>
  <cp:lastModifiedBy>SuperXP</cp:lastModifiedBy>
  <dcterms:modified xsi:type="dcterms:W3CDTF">2009-02-05T15:16:07Z</dcterms:modified>
  <cp:revision>94</cp:revision>
  <dc:subject/>
  <dc:title>投影片 1</dc:title>
</cp:coreProperties>
</file>