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55.gif" ContentType="image/gif"/>
  <Override PartName="/ppt/media/image3.wmf" ContentType="image/x-wmf"/>
  <Override PartName="/ppt/media/image80.wmf" ContentType="image/x-wmf"/>
  <Override PartName="/ppt/media/image52.wmf" ContentType="image/x-wmf"/>
  <Override PartName="/ppt/media/image27.gif" ContentType="image/gif"/>
  <Override PartName="/ppt/media/image51.gif" ContentType="image/gif"/>
  <Override PartName="/ppt/media/image76.jpeg" ContentType="image/jpeg"/>
  <Override PartName="/ppt/media/image50.wmf" ContentType="image/x-wmf"/>
  <Override PartName="/ppt/media/image25.gif" ContentType="image/gif"/>
  <Override PartName="/ppt/media/image45.gif" ContentType="image/gif"/>
  <Override PartName="/ppt/media/image44.gif" ContentType="image/gif"/>
  <Override PartName="/ppt/media/image43.gif" ContentType="image/gif"/>
  <Override PartName="/ppt/media/image42.gif" ContentType="image/gif"/>
  <Override PartName="/ppt/media/image41.gif" ContentType="image/gif"/>
  <Override PartName="/ppt/media/image40.gif" ContentType="image/gif"/>
  <Override PartName="/ppt/media/image36.gif" ContentType="image/gif"/>
  <Override PartName="/ppt/media/image35.gif" ContentType="image/gif"/>
  <Override PartName="/ppt/media/image60.wmf" ContentType="image/x-wmf"/>
  <Override PartName="/ppt/media/image34.gif" ContentType="image/gif"/>
  <Override PartName="/ppt/media/image33.gif" ContentType="image/gif"/>
  <Override PartName="/ppt/media/image32.gif" ContentType="image/gif"/>
  <Override PartName="/ppt/media/image30.gif" ContentType="image/gif"/>
  <Override PartName="/ppt/media/image46.wmf" ContentType="image/x-wmf"/>
  <Override PartName="/ppt/media/image17.gif" ContentType="image/gif"/>
  <Override PartName="/ppt/media/image22.gif" ContentType="image/gif"/>
  <Override PartName="/ppt/media/image23.gif" ContentType="image/gif"/>
  <Override PartName="/ppt/media/image56.wmf" ContentType="image/x-wmf"/>
  <Override PartName="/ppt/media/image19.gif" ContentType="image/gif"/>
  <Override PartName="/ppt/media/image62.gif" ContentType="image/gif"/>
  <Override PartName="/ppt/media/image26.gif" ContentType="image/gif"/>
  <Override PartName="/ppt/media/image59.wmf" ContentType="image/x-wmf"/>
  <Override PartName="/ppt/media/image63.gif" ContentType="image/gif"/>
  <Override PartName="/ppt/media/image64.gif" ContentType="image/gif"/>
  <Override PartName="/ppt/media/image2.jpeg" ContentType="image/jpeg"/>
  <Override PartName="/ppt/media/image21.gif" ContentType="image/gif"/>
  <Override PartName="/ppt/media/image79.wmf" ContentType="image/x-wmf"/>
  <Override PartName="/ppt/media/image20.gif" ContentType="image/gif"/>
  <Override PartName="/ppt/media/image78.wmf" ContentType="image/x-wmf"/>
  <Override PartName="/ppt/media/image75.wmf" ContentType="image/x-wmf"/>
  <Override PartName="/ppt/media/image72.gif" ContentType="image/gif"/>
  <Override PartName="/ppt/media/image74.gif" ContentType="image/gif"/>
  <Override PartName="/ppt/media/image73.gif" ContentType="image/gif"/>
  <Override PartName="/ppt/media/image71.gif" ContentType="image/gif"/>
  <Override PartName="/ppt/media/image54.wmf" ContentType="image/x-wmf"/>
  <Override PartName="/ppt/media/image29.gif" ContentType="image/gif"/>
  <Override PartName="/ppt/media/image69.gif" ContentType="image/gif"/>
  <Override PartName="/ppt/media/image70.gif" ContentType="image/gif"/>
  <Override PartName="/ppt/media/image53.wmf" ContentType="image/x-wmf"/>
  <Override PartName="/ppt/media/image28.gif" ContentType="image/gif"/>
  <Override PartName="/ppt/media/image68.gif" ContentType="image/gif"/>
  <Override PartName="/ppt/media/image31.gif" ContentType="image/gif"/>
  <Override PartName="/ppt/media/image13.gif" ContentType="image/gif"/>
  <Override PartName="/ppt/media/image1.gif" ContentType="image/gif"/>
  <Override PartName="/ppt/media/image67.gif" ContentType="image/gif"/>
  <Override PartName="/ppt/media/image66.gif" ContentType="image/gif"/>
  <Override PartName="/ppt/media/image61.gif" ContentType="image/gif"/>
  <Override PartName="/ppt/media/image77.jpeg" ContentType="image/jpeg"/>
  <Override PartName="/ppt/media/image65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47.wmf" ContentType="image/x-wmf"/>
  <Override PartName="/ppt/media/image24.gif" ContentType="image/gif"/>
  <Override PartName="/ppt/media/image57.wmf" ContentType="image/x-wmf"/>
  <Override PartName="/ppt/media/image81.wmf" ContentType="image/x-wmf"/>
  <Override PartName="/ppt/media/image4.wmf" ContentType="image/x-wmf"/>
  <Override PartName="/ppt/media/image38.gif" ContentType="image/gif"/>
  <Override PartName="/ppt/media/image37.gif" ContentType="image/gif"/>
  <Override PartName="/ppt/media/image82.wmf" ContentType="image/x-wmf"/>
  <Override PartName="/ppt/media/image5.wmf" ContentType="image/x-wmf"/>
  <Override PartName="/ppt/media/image39.gif" ContentType="image/gif"/>
  <Override PartName="/ppt/media/image83.wmf" ContentType="image/x-wmf"/>
  <Override PartName="/ppt/media/image6.wmf" ContentType="image/x-wmf"/>
  <Override PartName="/ppt/media/image84.wmf" ContentType="image/x-wmf"/>
  <Override PartName="/ppt/media/image7.wmf" ContentType="image/x-wmf"/>
  <Override PartName="/ppt/media/image9.png" ContentType="image/png"/>
  <Override PartName="/ppt/media/image18.gif" ContentType="image/gif"/>
  <Override PartName="/ppt/media/image8.wmf" ContentType="image/x-wmf"/>
  <Override PartName="/ppt/media/image10.gif" ContentType="image/gif"/>
  <Override PartName="/ppt/media/image11.gif" ContentType="image/gif"/>
  <Override PartName="/ppt/media/image48.gif" ContentType="image/gif"/>
  <Override PartName="/ppt/media/image12.gif" ContentType="image/gif"/>
  <Override PartName="/ppt/media/image4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EF9-36CA-498D-B1B4-7FBC4004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6CED-474F-4635-BEB5-0026E0AE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33EC-229D-4BF0-B846-84E1EEC0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3D89-0C51-4C64-9EF4-BF87D7A0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C9F73-004E-42A3-8D21-CF1A09C7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3853C-6C50-4ECB-A3FE-7B3B8DF1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66ACA-B360-4EE1-9689-CA92B542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85F89-6329-4570-A2C6-BA75A943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F8010-2B23-40D3-8C55-FD874477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C8DEB-DE6D-4D94-81A7-31C31B7D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A5CEA-156F-458F-811B-3333B8E0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792-C616-461B-BCA3-C4F5D39C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A59AD-A09E-469E-A43A-F5A55865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AEC23-8CE5-48DB-83A7-D68A7C33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8E73E-877C-43D7-AD38-0A723CAE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7410A-C1D7-471D-BDDB-10272F57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373D6-F106-4DBB-8A05-048CA332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4F4-1C90-4B9B-922D-59576B3D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3DC9-A8EE-4152-8586-C229E48E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DA2C-30A7-49FA-A8DB-860103C5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42ED-4746-4892-A1D8-B3090439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175-94C2-4BC9-92E2-F97178E9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B4EC-A085-4564-9780-82E9CCCD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BF5-730D-47BC-8F8D-B344B704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D8A0-A231-4F43-9A43-0B2EE76D41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6FFA-278F-4EBD-960B-8D9F4F5778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png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image" Target="../media/image62.gif"/><Relationship Id="rId3" Type="http://schemas.openxmlformats.org/officeDocument/2006/relationships/image" Target="../media/image22.gif"/><Relationship Id="rId4" Type="http://schemas.openxmlformats.org/officeDocument/2006/relationships/image" Target="../media/image63.gif"/><Relationship Id="rId5" Type="http://schemas.openxmlformats.org/officeDocument/2006/relationships/image" Target="../media/image64.gif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image" Target="../media/image66.gif"/><Relationship Id="rId3" Type="http://schemas.openxmlformats.org/officeDocument/2006/relationships/image" Target="../media/image67.gif"/><Relationship Id="rId4" Type="http://schemas.openxmlformats.org/officeDocument/2006/relationships/image" Target="../media/image68.gif"/><Relationship Id="rId5" Type="http://schemas.openxmlformats.org/officeDocument/2006/relationships/image" Target="../media/image69.gif"/><Relationship Id="rId6" Type="http://schemas.openxmlformats.org/officeDocument/2006/relationships/image" Target="../media/image70.gif"/><Relationship Id="rId7" Type="http://schemas.openxmlformats.org/officeDocument/2006/relationships/image" Target="../media/image71.gif"/><Relationship Id="rId8" Type="http://schemas.openxmlformats.org/officeDocument/2006/relationships/image" Target="../media/image72.gif"/><Relationship Id="rId9" Type="http://schemas.openxmlformats.org/officeDocument/2006/relationships/image" Target="../media/image73.gif"/><Relationship Id="rId10" Type="http://schemas.openxmlformats.org/officeDocument/2006/relationships/image" Target="../media/image74.gif"/><Relationship Id="rId1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k.wrs.yahoo.com/_ylt=A3xsaCOwW41JdNkAAJy.ygt./SIG=1299og988/EXP=1234087216/**http%3A//static.flickr.com/209/488658368_6092007a8b.jpg" TargetMode="External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k.wrs.yahoo.com/_ylt=A3xsaCVRT41JNIUABm..ygt./SIG=12alt93rb/EXP=1234084049/**http%3A//static.flickr.com/1009/534793808_f18689b3ec.jpg" TargetMode="External"/><Relationship Id="rId2" Type="http://schemas.openxmlformats.org/officeDocument/2006/relationships/image" Target="../media/image77.jpeg"/><Relationship Id="rId3" Type="http://schemas.openxmlformats.org/officeDocument/2006/relationships/image" Target="../media/image78.wmf"/><Relationship Id="rId4" Type="http://schemas.openxmlformats.org/officeDocument/2006/relationships/image" Target="../media/image79.wmf"/><Relationship Id="rId5" Type="http://schemas.openxmlformats.org/officeDocument/2006/relationships/image" Target="../media/image80.wmf"/><Relationship Id="rId6" Type="http://schemas.openxmlformats.org/officeDocument/2006/relationships/image" Target="../media/image81.wmf"/><Relationship Id="rId7" Type="http://schemas.openxmlformats.org/officeDocument/2006/relationships/image" Target="../media/image82.wmf"/><Relationship Id="rId8" Type="http://schemas.openxmlformats.org/officeDocument/2006/relationships/image" Target="../media/image83.wmf"/><Relationship Id="rId9" Type="http://schemas.openxmlformats.org/officeDocument/2006/relationships/image" Target="../media/image84.wmf"/><Relationship Id="rId10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1.gi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7.gif"/><Relationship Id="rId11" Type="http://schemas.openxmlformats.org/officeDocument/2006/relationships/image" Target="../media/image18.gif"/><Relationship Id="rId1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image" Target="../media/image26.gif"/><Relationship Id="rId9" Type="http://schemas.openxmlformats.org/officeDocument/2006/relationships/image" Target="../media/image27.gif"/><Relationship Id="rId10" Type="http://schemas.openxmlformats.org/officeDocument/2006/relationships/image" Target="../media/image28.gif"/><Relationship Id="rId1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image" Target="../media/image35.gif"/><Relationship Id="rId8" Type="http://schemas.openxmlformats.org/officeDocument/2006/relationships/image" Target="../media/image36.gif"/><Relationship Id="rId9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40.gif"/><Relationship Id="rId5" Type="http://schemas.openxmlformats.org/officeDocument/2006/relationships/image" Target="../media/image41.gif"/><Relationship Id="rId6" Type="http://schemas.openxmlformats.org/officeDocument/2006/relationships/image" Target="../media/image42.gif"/><Relationship Id="rId7" Type="http://schemas.openxmlformats.org/officeDocument/2006/relationships/image" Target="../media/image43.gif"/><Relationship Id="rId8" Type="http://schemas.openxmlformats.org/officeDocument/2006/relationships/image" Target="../media/image44.gif"/><Relationship Id="rId9" Type="http://schemas.openxmlformats.org/officeDocument/2006/relationships/image" Target="../media/image45.gif"/><Relationship Id="rId10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gif"/><Relationship Id="rId4" Type="http://schemas.openxmlformats.org/officeDocument/2006/relationships/image" Target="../media/image49.gif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gif"/><Relationship Id="rId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gi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-1523880" y="0"/>
            <a:ext cx="11277360" cy="733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A prize giving ceremony in heave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240" y="54864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ritten by Raphael Chan Ka N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CC Kei Faat Primary School (Yau Tong) 5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57200" y="2286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  <a:ea typeface="新細明體"/>
              </a:rPr>
              <a:t>The VIP guest “God” made a speech: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  <a:ea typeface="新細明體"/>
              </a:rPr>
              <a:t>First I made the heaven and the earth. 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343400" y="3124080"/>
            <a:ext cx="1719360" cy="1752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248520" y="4492800"/>
            <a:ext cx="2514600" cy="2365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33520" y="5257800"/>
            <a:ext cx="1752480" cy="1236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3124080" y="5032440"/>
            <a:ext cx="221004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  <a:ea typeface="新細明體"/>
              </a:rPr>
              <a:t>Then I made the Sun and the Moon, and for making changes of the year, and for days and for seasons.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  <a:ea typeface="新細明體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629400" y="33526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2819160" cy="1895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952880" y="4800600"/>
            <a:ext cx="771480" cy="1143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3886200" y="5181480"/>
            <a:ext cx="905040" cy="733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4191120" y="40384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  <a:ea typeface="新細明體"/>
              </a:rPr>
              <a:t>I also made all sorts of living things, cattle and all things moving on the earth, and beasts of the earth after their sort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  <a:ea typeface="新細明體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257800" y="6289560"/>
            <a:ext cx="1143000" cy="568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447920" y="5986440"/>
            <a:ext cx="838080" cy="808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400800" y="3048120"/>
            <a:ext cx="762120" cy="390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1981080" y="5410080"/>
            <a:ext cx="2057400" cy="1148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3276720" y="6400800"/>
            <a:ext cx="485640" cy="254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4419720" y="5638680"/>
            <a:ext cx="990360" cy="8413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1752480" y="3143160"/>
            <a:ext cx="381240" cy="238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8"/>
          <a:stretch/>
        </p:blipFill>
        <p:spPr>
          <a:xfrm>
            <a:off x="6400800" y="5562720"/>
            <a:ext cx="1266840" cy="1038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9"/>
          <a:stretch/>
        </p:blipFill>
        <p:spPr>
          <a:xfrm>
            <a:off x="0" y="5915160"/>
            <a:ext cx="1362240" cy="942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0"/>
          <a:stretch/>
        </p:blipFill>
        <p:spPr>
          <a:xfrm>
            <a:off x="7620120" y="5946840"/>
            <a:ext cx="1523880" cy="911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  <a:ea typeface="新細明體"/>
              </a:rPr>
              <a:t>Finally I made man from the dust of the earth, breathing into him the breath of life: and man became a living soul. 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162864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28600" y="-14400"/>
            <a:ext cx="10287000" cy="70596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新細明體"/>
              </a:rPr>
              <a:t>On the seventh day I finished my work which I had made and made this day holy.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  <a:ea typeface="新細明體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9080"/>
            <a:ext cx="9201240" cy="68961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新細明體"/>
              </a:rPr>
              <a:t>At the end, God sat upon the throne. All participants fell down to worship and glorify the name of God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029200" y="5410080"/>
            <a:ext cx="1371600" cy="1005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7467480" y="3886200"/>
            <a:ext cx="1312920" cy="1889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3048120" y="5257800"/>
            <a:ext cx="1218960" cy="1174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8001000" y="457200"/>
            <a:ext cx="822240" cy="1069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457200" y="4952880"/>
            <a:ext cx="1806480" cy="1413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228600" y="533520"/>
            <a:ext cx="1052640" cy="920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4114800" y="5105520"/>
            <a:ext cx="655560" cy="892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-1523880" y="0"/>
            <a:ext cx="11277360" cy="73310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 rot="21224400">
            <a:off x="3147840" y="3114720"/>
            <a:ext cx="2743200" cy="17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新細明體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新細明體"/>
              <a:ea typeface="新細明體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09480" y="5335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-1523880" y="0"/>
            <a:ext cx="11277360" cy="7331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ring, Summer, Autumn and Winter are the recipients of the prizes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5273640"/>
            <a:ext cx="1390680" cy="158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286000" y="5425920"/>
            <a:ext cx="1523880" cy="1355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181480" y="5273640"/>
            <a:ext cx="1176480" cy="1447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7391520" y="5121360"/>
            <a:ext cx="1589040" cy="1676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304920" y="3808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4267080" y="3444840"/>
            <a:ext cx="1011240" cy="1192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  <a:ea typeface="新細明體"/>
              </a:rPr>
              <a:t>Spring said: People love me as the weather is not too cold or too warm, they can enjoy their family reunions throughout the Lunar New Year.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96080" y="5705640"/>
            <a:ext cx="1447920" cy="115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6053040"/>
            <a:ext cx="838080" cy="804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895480" y="3581280"/>
            <a:ext cx="1447920" cy="768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095880" y="3581280"/>
            <a:ext cx="857520" cy="704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809880" y="5105520"/>
            <a:ext cx="1171800" cy="1247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838080" y="4876920"/>
            <a:ext cx="1600200" cy="1292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4648320" y="6172200"/>
            <a:ext cx="685800" cy="414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2590920" y="5257800"/>
            <a:ext cx="790560" cy="1019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5486400" y="5105520"/>
            <a:ext cx="942840" cy="1171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609480" y="3657600"/>
            <a:ext cx="1362240" cy="857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6705720" y="6076800"/>
            <a:ext cx="952560" cy="781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  <a:ea typeface="新細明體"/>
              </a:rPr>
              <a:t>Summer said: People love me since sunny day make people full of energy. Students will have their long summer vacation and activities.</a:t>
            </a:r>
            <a:br>
              <a:rPr sz="40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876920" y="4876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1182960" cy="1752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391520" y="35812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600200" y="2971800"/>
            <a:ext cx="874800" cy="1295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1752480" y="5548320"/>
            <a:ext cx="1219320" cy="969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7924680" y="6058080"/>
            <a:ext cx="838440" cy="799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6477120" y="5943600"/>
            <a:ext cx="1295280" cy="579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380880" y="5334120"/>
            <a:ext cx="1143000" cy="871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3124080" y="5410080"/>
            <a:ext cx="1295640" cy="1079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0"/>
          <a:stretch/>
        </p:blipFill>
        <p:spPr>
          <a:xfrm>
            <a:off x="7772400" y="5638680"/>
            <a:ext cx="1905120" cy="641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  <a:ea typeface="新細明體"/>
              </a:rPr>
              <a:t>Autumn said: People love me as the weather is quite cooler and dryer, and thus makes a comfortable environment for them.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8600" y="4876920"/>
            <a:ext cx="1676520" cy="1476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334120" y="4876920"/>
            <a:ext cx="1522440" cy="1581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657600" y="51055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905120" y="5423040"/>
            <a:ext cx="1066680" cy="974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895480" y="6172200"/>
            <a:ext cx="609840" cy="436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315200" y="3730680"/>
            <a:ext cx="1523880" cy="1193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7772400" y="5715000"/>
            <a:ext cx="990720" cy="906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2971800" y="3886200"/>
            <a:ext cx="95256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  <a:ea typeface="新細明體"/>
              </a:rPr>
              <a:t>Winter said: The weather is cold and snow can be seen in some places. Students can enjoy their Christmas and New Year Holidays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5257800"/>
            <a:ext cx="954000" cy="1209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343400" y="4724280"/>
            <a:ext cx="925560" cy="1505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238880" y="3276720"/>
            <a:ext cx="1035000" cy="1571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5715000" y="4952880"/>
            <a:ext cx="800280" cy="1314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7391520" y="5791320"/>
            <a:ext cx="1218960" cy="609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2057400" y="4495680"/>
            <a:ext cx="666720" cy="619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5334120" y="6172200"/>
            <a:ext cx="1400040" cy="4287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1523880" y="5638680"/>
            <a:ext cx="1200240" cy="676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2895480" y="525780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  <a:ea typeface="新細明體"/>
              </a:rPr>
              <a:t>The loser Natural Disaster query: I can destroy everything and kill thousands of people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4967280"/>
            <a:ext cx="1752480" cy="1890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676760" y="5129280"/>
            <a:ext cx="1981080" cy="1743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981080" y="5334120"/>
            <a:ext cx="2210040" cy="1342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629400" y="6291360"/>
            <a:ext cx="2514600" cy="609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5867280" y="2743200"/>
            <a:ext cx="14922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  <a:ea typeface="新細明體"/>
              </a:rPr>
              <a:t>The host “Angel” explained: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  <a:ea typeface="新細明體"/>
              </a:rPr>
              <a:t>You can make trouble in peace; God can create peace in trouble. 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23880" y="52578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191120" y="5216400"/>
            <a:ext cx="1295280" cy="1067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934320" y="5127480"/>
            <a:ext cx="1828800" cy="1309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914400" y="3886200"/>
            <a:ext cx="520560" cy="754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3276720" y="29718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  <a:ea typeface="新細明體"/>
              </a:rPr>
              <a:t>Angel also said: The winners are good for human being and God is justice and kind. 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625320" cy="906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24080" y="32004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4:01:06Z</dcterms:created>
  <dc:creator>Ntuser</dc:creator>
  <dc:description/>
  <dc:language>en-US</dc:language>
  <cp:lastModifiedBy>KS Chan</cp:lastModifiedBy>
  <dcterms:modified xsi:type="dcterms:W3CDTF">2009-02-07T13:00:57Z</dcterms:modified>
  <cp:revision>34</cp:revision>
  <dc:subject/>
  <dc:title>Slide 1</dc:title>
</cp:coreProperties>
</file>