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3A8-AB30-4375-BD95-E3449F8B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10C-9795-4A69-B6D1-9654E505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55D-D136-4D43-A570-D4A9A07E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347-C505-41AF-891E-68967E14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D297-7E15-4515-8F49-B3684FC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A851-E8B6-48CC-A22B-B79601E5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C7BAB-4C34-4A90-8725-076FC86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13E94-101D-4D5A-87DD-818EA5E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7224F-9F5B-4285-A0B2-FA79872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73F4-39D7-451E-A76A-C05C915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C408-CC9F-458A-9E61-0F74ECB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5C1-017E-4857-ADA3-E17B77F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DC884-D6BA-4676-83D6-BD34DF6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7F6D-8E61-4580-A80E-C7993AE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7BA51-73B8-4041-8E9E-4A0610B6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91844-1ECC-4050-AE48-AC139794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D09C-116D-4058-A9BF-82D69CE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9C5-67AE-41B6-806F-0D19558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98A-3C9A-42C8-9983-89721191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C58-5073-498A-B5A4-BA1DE7C4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33B-E488-43BC-A640-AA34DF3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396-2E83-4169-8478-A0E7CFD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251-72C1-4166-B1B7-B1FDA4D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B27-4707-40F8-9112-08B6434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5BB-4126-4586-9A43-4C1F539E788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11A-0EF2-47E3-8282-A1C3CF2520F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wmf"/><Relationship Id="rId3" Type="http://schemas.openxmlformats.org/officeDocument/2006/relationships/image" Target="../media/image5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wmf"/><Relationship Id="rId3" Type="http://schemas.openxmlformats.org/officeDocument/2006/relationships/image" Target="../media/image5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5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wmf"/><Relationship Id="rId3" Type="http://schemas.openxmlformats.org/officeDocument/2006/relationships/image" Target="../media/image5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wmf"/><Relationship Id="rId3" Type="http://schemas.openxmlformats.org/officeDocument/2006/relationships/image" Target="../media/image5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5800" y="4605480"/>
            <a:ext cx="382932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Tahoma"/>
              </a:rPr>
              <a:t>By  Mike Ch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Tahoma"/>
              </a:rPr>
              <a:t>6A (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428760" y="785880"/>
            <a:ext cx="8572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新細明體"/>
              </a:rPr>
              <a:t>The adventures at th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新細明體"/>
              </a:rPr>
              <a:t>shopping cent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85" name="Picture 9" descr="C:\Users\Mike\AppData\Local\Microsoft\Windows\Temporary Internet Files\Content.IE5\EIZ0BCMA\MCj03955680000[1].wmf"/>
          <p:cNvPicPr/>
          <p:nvPr/>
        </p:nvPicPr>
        <p:blipFill>
          <a:blip r:embed="rId5"/>
          <a:stretch/>
        </p:blipFill>
        <p:spPr>
          <a:xfrm>
            <a:off x="2357280" y="4389480"/>
            <a:ext cx="138780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:\Users\Mike\AppData\Local\Microsoft\Windows\Temporary Internet Files\Content.IE5\9VS52SBK\MCj02922520000[1].wmf"/>
          <p:cNvPicPr/>
          <p:nvPr/>
        </p:nvPicPr>
        <p:blipFill>
          <a:blip r:embed="rId6"/>
          <a:srcRect l="28470" t="0" r="20862" b="0"/>
          <a:stretch/>
        </p:blipFill>
        <p:spPr>
          <a:xfrm flipH="1">
            <a:off x="214200" y="4389480"/>
            <a:ext cx="1214640" cy="24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Users\Mike\AppData\Local\Microsoft\Windows\Temporary Internet Files\Content.IE5\IFU1O83H\MCj02324520000[1].wmf"/>
          <p:cNvPicPr/>
          <p:nvPr/>
        </p:nvPicPr>
        <p:blipFill>
          <a:blip r:embed="rId7"/>
          <a:stretch/>
        </p:blipFill>
        <p:spPr>
          <a:xfrm>
            <a:off x="1428840" y="4532400"/>
            <a:ext cx="104148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14324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he went out from the station, he saw a forest. He was scared, he wanted to go back to the stati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714680" y="50004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398952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when he turned back, the station disappeared. He was frighten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785960" y="28584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Mike\AppData\Local\Microsoft\Windows\Temporary Internet Files\Content.IE5\EIZ0BCMA\MCj03835500000[1].wmf"/>
          <p:cNvPicPr/>
          <p:nvPr/>
        </p:nvPicPr>
        <p:blipFill>
          <a:blip r:embed="rId2"/>
          <a:srcRect l="0" t="0" r="46269" b="73193"/>
          <a:stretch/>
        </p:blipFill>
        <p:spPr>
          <a:xfrm rot="1941000">
            <a:off x="5254560" y="1082160"/>
            <a:ext cx="846360" cy="9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Mike\AppData\Local\Microsoft\Windows\Temporary Internet Files\Content.IE5\EIZ0BCMA\MCj03835500000[1].wmf"/>
          <p:cNvPicPr/>
          <p:nvPr/>
        </p:nvPicPr>
        <p:blipFill>
          <a:blip r:embed="rId3"/>
          <a:srcRect l="0" t="0" r="46269" b="73193"/>
          <a:stretch/>
        </p:blipFill>
        <p:spPr>
          <a:xfrm rot="201600">
            <a:off x="4098960" y="595080"/>
            <a:ext cx="844560" cy="92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Mike\AppData\Local\Microsoft\Windows\Temporary Internet Files\Content.IE5\EIZ0BCMA\MCj03835500000[1].wmf"/>
          <p:cNvPicPr/>
          <p:nvPr/>
        </p:nvPicPr>
        <p:blipFill>
          <a:blip r:embed="rId4"/>
          <a:srcRect l="0" t="0" r="46269" b="73193"/>
          <a:stretch/>
        </p:blipFill>
        <p:spPr>
          <a:xfrm rot="19373400">
            <a:off x="2980800" y="1374840"/>
            <a:ext cx="84456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4071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 walked around the forest to see whether there was any peopl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785960" y="28584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Mike\AppData\Local\Microsoft\Windows\Temporary Internet Files\Content.IE5\YITWUOU7\MCj02324480000[1].wmf"/>
          <p:cNvPicPr/>
          <p:nvPr/>
        </p:nvPicPr>
        <p:blipFill>
          <a:blip r:embed="rId2"/>
          <a:srcRect l="0" t="0" r="0" b="38820"/>
          <a:stretch/>
        </p:blipFill>
        <p:spPr>
          <a:xfrm>
            <a:off x="3929040" y="2786040"/>
            <a:ext cx="1787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560"/>
            <a:ext cx="9001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a few minutes, he saw a house. Suddenly, he heard a voice, it said, ‘Hi, are you human?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428840" y="21420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Mike\AppData\Local\Microsoft\Windows\Temporary Internet Files\Content.IE5\EIZ0BCMA\MCj03949220000[1].wmf"/>
          <p:cNvPicPr/>
          <p:nvPr/>
        </p:nvPicPr>
        <p:blipFill>
          <a:blip r:embed="rId2"/>
          <a:stretch/>
        </p:blipFill>
        <p:spPr>
          <a:xfrm>
            <a:off x="4065480" y="1000080"/>
            <a:ext cx="3081600" cy="2679840"/>
          </a:xfrm>
          <a:prstGeom prst="rect">
            <a:avLst/>
          </a:prstGeom>
          <a:ln w="0">
            <a:noFill/>
          </a:ln>
        </p:spPr>
      </p:pic>
      <p:grpSp>
        <p:nvGrpSpPr>
          <p:cNvPr id="130" name="群組 8"/>
          <p:cNvGrpSpPr/>
          <p:nvPr/>
        </p:nvGrpSpPr>
        <p:grpSpPr>
          <a:xfrm>
            <a:off x="1749600" y="2670480"/>
            <a:ext cx="1190520" cy="1065600"/>
            <a:chOff x="1749600" y="2670480"/>
            <a:chExt cx="1190520" cy="1065600"/>
          </a:xfrm>
        </p:grpSpPr>
        <p:sp>
          <p:nvSpPr>
            <p:cNvPr id="131" name="直線接點 5"/>
            <p:cNvSpPr/>
            <p:nvPr/>
          </p:nvSpPr>
          <p:spPr>
            <a:xfrm flipH="1" flipV="1">
              <a:off x="1749600" y="2670480"/>
              <a:ext cx="121680" cy="797040"/>
            </a:xfrm>
            <a:prstGeom prst="line">
              <a:avLst/>
            </a:prstGeom>
            <a:ln w="95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直線接點 6"/>
            <p:cNvSpPr/>
            <p:nvPr/>
          </p:nvSpPr>
          <p:spPr>
            <a:xfrm flipH="1">
              <a:off x="2186280" y="3621240"/>
              <a:ext cx="753840" cy="114840"/>
            </a:xfrm>
            <a:prstGeom prst="line">
              <a:avLst/>
            </a:prstGeom>
            <a:ln w="95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直線接點 7"/>
            <p:cNvSpPr/>
            <p:nvPr/>
          </p:nvSpPr>
          <p:spPr>
            <a:xfrm flipV="1">
              <a:off x="2029680" y="2926440"/>
              <a:ext cx="477720" cy="649800"/>
            </a:xfrm>
            <a:prstGeom prst="line">
              <a:avLst/>
            </a:prstGeom>
            <a:ln w="95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428840" y="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35719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ter was scared. He turned back and saw a big rabbit. It was about 1 metre hig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C:\Users\Mike\AppData\Local\Microsoft\Windows\Temporary Internet Files\Content.IE5\YITWUOU7\MCj02322700000[1].wmf"/>
          <p:cNvPicPr/>
          <p:nvPr/>
        </p:nvPicPr>
        <p:blipFill>
          <a:blip r:embed="rId2"/>
          <a:stretch/>
        </p:blipFill>
        <p:spPr>
          <a:xfrm rot="2567400">
            <a:off x="3173040" y="952560"/>
            <a:ext cx="259236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Mike\Desktop\uccccccccccccccccccccntitled.bmp"/>
          <p:cNvPicPr/>
          <p:nvPr/>
        </p:nvPicPr>
        <p:blipFill>
          <a:blip r:embed="rId1"/>
          <a:stretch/>
        </p:blipFill>
        <p:spPr>
          <a:xfrm>
            <a:off x="1428840" y="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7120" y="3571920"/>
            <a:ext cx="8229600" cy="25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ter replied, ‘Yes, I’m human.’ The rabbit said, ‘My name is Mary. Welcome to my house.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" descr="C:\Users\Mike\AppData\Local\Microsoft\Windows\Temporary Internet Files\Content.IE5\YITWUOU7\MCj02322700000[1].wmf"/>
          <p:cNvPicPr/>
          <p:nvPr/>
        </p:nvPicPr>
        <p:blipFill>
          <a:blip r:embed="rId2"/>
          <a:stretch/>
        </p:blipFill>
        <p:spPr>
          <a:xfrm rot="2567400">
            <a:off x="2991960" y="880920"/>
            <a:ext cx="2594160" cy="2676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Mike\AppData\Local\Microsoft\Windows\Temporary Internet Files\Content.IE5\IFU1O83H\MCj02324520000[1].wmf"/>
          <p:cNvPicPr/>
          <p:nvPr/>
        </p:nvPicPr>
        <p:blipFill>
          <a:blip r:embed="rId3"/>
          <a:stretch/>
        </p:blipFill>
        <p:spPr>
          <a:xfrm>
            <a:off x="1643040" y="428760"/>
            <a:ext cx="1428840" cy="332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Mike\AppData\Local\Microsoft\Windows\Temporary Internet Files\Content.IE5\EIZ0BCMA\MCj03949220000[1].wmf"/>
          <p:cNvPicPr/>
          <p:nvPr/>
        </p:nvPicPr>
        <p:blipFill>
          <a:blip r:embed="rId4"/>
          <a:stretch/>
        </p:blipFill>
        <p:spPr>
          <a:xfrm>
            <a:off x="5214960" y="1785960"/>
            <a:ext cx="193212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643280"/>
            <a:ext cx="8229600" cy="201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ter went into the house. There were two more rabbi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群組 8"/>
          <p:cNvGrpSpPr/>
          <p:nvPr/>
        </p:nvGrpSpPr>
        <p:grpSpPr>
          <a:xfrm>
            <a:off x="1714680" y="285840"/>
            <a:ext cx="5690880" cy="4546440"/>
            <a:chOff x="1714680" y="285840"/>
            <a:chExt cx="5690880" cy="4546440"/>
          </a:xfrm>
        </p:grpSpPr>
        <p:pic>
          <p:nvPicPr>
            <p:cNvPr id="144" name="Picture 2" descr="C:\Users\Mike\Desktop\untitlecxxcx.bmp"/>
            <p:cNvPicPr/>
            <p:nvPr/>
          </p:nvPicPr>
          <p:blipFill>
            <a:blip r:embed="rId1"/>
            <a:stretch/>
          </p:blipFill>
          <p:spPr>
            <a:xfrm>
              <a:off x="1714680" y="285840"/>
              <a:ext cx="5690880" cy="43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Mike\AppData\Local\Microsoft\Windows\Temporary Internet Files\Content.IE5\YITWUOU7\MCj02322700000[1].wmf"/>
            <p:cNvPicPr/>
            <p:nvPr/>
          </p:nvPicPr>
          <p:blipFill>
            <a:blip r:embed="rId2"/>
            <a:stretch/>
          </p:blipFill>
          <p:spPr>
            <a:xfrm rot="2567400">
              <a:off x="3129480" y="2613240"/>
              <a:ext cx="1797480" cy="18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Mike\AppData\Local\Microsoft\Windows\Temporary Internet Files\Content.IE5\IFU1O83H\MCj02324520000[1].wmf"/>
            <p:cNvPicPr/>
            <p:nvPr/>
          </p:nvPicPr>
          <p:blipFill>
            <a:blip r:embed="rId3"/>
            <a:stretch/>
          </p:blipFill>
          <p:spPr>
            <a:xfrm>
              <a:off x="2397600" y="2164320"/>
              <a:ext cx="1083600" cy="25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" descr="C:\Users\Mike\AppData\Local\Microsoft\Windows\Temporary Internet Files\Content.IE5\YITWUOU7\MCj02322700000[1].wmf"/>
            <p:cNvPicPr/>
            <p:nvPr/>
          </p:nvPicPr>
          <p:blipFill>
            <a:blip r:embed="rId4"/>
            <a:stretch/>
          </p:blipFill>
          <p:spPr>
            <a:xfrm rot="2567400">
              <a:off x="4462560" y="2078640"/>
              <a:ext cx="1797480" cy="18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" descr="C:\Users\Mike\AppData\Local\Microsoft\Windows\Temporary Internet Files\Content.IE5\YITWUOU7\MCj02322700000[1].wmf"/>
            <p:cNvPicPr/>
            <p:nvPr/>
          </p:nvPicPr>
          <p:blipFill>
            <a:blip r:embed="rId5"/>
            <a:stretch/>
          </p:blipFill>
          <p:spPr>
            <a:xfrm rot="2567400">
              <a:off x="4025520" y="2152440"/>
              <a:ext cx="1207440" cy="1246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214200"/>
            <a:ext cx="878688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y said, ‘He is my husband and he is my son. Come to have a seat. I will make some tea for you.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群組 8"/>
          <p:cNvGrpSpPr/>
          <p:nvPr/>
        </p:nvGrpSpPr>
        <p:grpSpPr>
          <a:xfrm>
            <a:off x="1714680" y="2286000"/>
            <a:ext cx="5729040" cy="4575960"/>
            <a:chOff x="1714680" y="2286000"/>
            <a:chExt cx="5729040" cy="4575960"/>
          </a:xfrm>
        </p:grpSpPr>
        <p:pic>
          <p:nvPicPr>
            <p:cNvPr id="151" name="Picture 2" descr="C:\Users\Mike\Desktop\untitlecxxcx.bmp"/>
            <p:cNvPicPr/>
            <p:nvPr/>
          </p:nvPicPr>
          <p:blipFill>
            <a:blip r:embed="rId1"/>
            <a:stretch/>
          </p:blipFill>
          <p:spPr>
            <a:xfrm>
              <a:off x="1714680" y="2286000"/>
              <a:ext cx="5729040" cy="433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C:\Users\Mike\AppData\Local\Microsoft\Windows\Temporary Internet Files\Content.IE5\YITWUOU7\MCj02322700000[1].wmf"/>
            <p:cNvPicPr/>
            <p:nvPr/>
          </p:nvPicPr>
          <p:blipFill>
            <a:blip r:embed="rId2"/>
            <a:stretch/>
          </p:blipFill>
          <p:spPr>
            <a:xfrm rot="2567400">
              <a:off x="4600440" y="4112640"/>
              <a:ext cx="1809360" cy="18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" descr="C:\Users\Mike\AppData\Local\Microsoft\Windows\Temporary Internet Files\Content.IE5\YITWUOU7\MCj02322700000[1].wmf"/>
            <p:cNvPicPr/>
            <p:nvPr/>
          </p:nvPicPr>
          <p:blipFill>
            <a:blip r:embed="rId3"/>
            <a:stretch/>
          </p:blipFill>
          <p:spPr>
            <a:xfrm rot="2567400">
              <a:off x="4041360" y="4164120"/>
              <a:ext cx="12153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" descr="C:\Users\Mike\AppData\Local\Microsoft\Windows\Temporary Internet Files\Content.IE5\IFU1O83H\MCj02324520000[1].wmf"/>
            <p:cNvPicPr/>
            <p:nvPr/>
          </p:nvPicPr>
          <p:blipFill>
            <a:blip r:embed="rId4"/>
            <a:stretch/>
          </p:blipFill>
          <p:spPr>
            <a:xfrm>
              <a:off x="2401920" y="4176360"/>
              <a:ext cx="1090800" cy="25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" descr="C:\Users\Mike\AppData\Local\Microsoft\Windows\Temporary Internet Files\Content.IE5\YITWUOU7\MCj02322700000[1].wmf"/>
            <p:cNvPicPr/>
            <p:nvPr/>
          </p:nvPicPr>
          <p:blipFill>
            <a:blip r:embed="rId5"/>
            <a:stretch/>
          </p:blipFill>
          <p:spPr>
            <a:xfrm rot="2567400">
              <a:off x="3139560" y="4628160"/>
              <a:ext cx="1809360" cy="1867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Peter drank some tea, he was tired. He fell aslee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7" name="群組 12"/>
          <p:cNvGrpSpPr/>
          <p:nvPr/>
        </p:nvGrpSpPr>
        <p:grpSpPr>
          <a:xfrm>
            <a:off x="877680" y="2071800"/>
            <a:ext cx="6742440" cy="4744800"/>
            <a:chOff x="877680" y="2071800"/>
            <a:chExt cx="6742440" cy="4744800"/>
          </a:xfrm>
        </p:grpSpPr>
        <p:pic>
          <p:nvPicPr>
            <p:cNvPr id="158" name="Picture 2" descr="C:\Users\Mike\Desktop\untitlecxxcx.bmp"/>
            <p:cNvPicPr/>
            <p:nvPr/>
          </p:nvPicPr>
          <p:blipFill>
            <a:blip r:embed="rId1"/>
            <a:stretch/>
          </p:blipFill>
          <p:spPr>
            <a:xfrm>
              <a:off x="1679760" y="2071800"/>
              <a:ext cx="5940360" cy="44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" descr="C:\Users\Mike\AppData\Local\Microsoft\Windows\Temporary Internet Files\Content.IE5\YITWUOU7\MCj02322700000[1].wmf"/>
            <p:cNvPicPr/>
            <p:nvPr/>
          </p:nvPicPr>
          <p:blipFill>
            <a:blip r:embed="rId2"/>
            <a:stretch/>
          </p:blipFill>
          <p:spPr>
            <a:xfrm rot="2567400">
              <a:off x="3156840" y="4500360"/>
              <a:ext cx="1876320" cy="19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" descr="C:\Users\Mike\AppData\Local\Microsoft\Windows\Temporary Internet Files\Content.IE5\IFU1O83H\MCj02324520000[1].wmf"/>
            <p:cNvPicPr/>
            <p:nvPr/>
          </p:nvPicPr>
          <p:blipFill>
            <a:blip r:embed="rId3"/>
            <a:stretch/>
          </p:blipFill>
          <p:spPr>
            <a:xfrm flipH="1" rot="3594600">
              <a:off x="5124240" y="3858840"/>
              <a:ext cx="1116720" cy="26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" descr="C:\Users\Mike\AppData\Local\Microsoft\Windows\Temporary Internet Files\Content.IE5\YITWUOU7\MCj02322700000[1].wmf"/>
            <p:cNvPicPr/>
            <p:nvPr/>
          </p:nvPicPr>
          <p:blipFill>
            <a:blip r:embed="rId4"/>
            <a:stretch/>
          </p:blipFill>
          <p:spPr>
            <a:xfrm rot="2567400">
              <a:off x="1285560" y="4500360"/>
              <a:ext cx="1876320" cy="19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" descr="C:\Users\Mike\AppData\Local\Microsoft\Windows\Temporary Internet Files\Content.IE5\YITWUOU7\MCj02322700000[1].wmf"/>
            <p:cNvPicPr/>
            <p:nvPr/>
          </p:nvPicPr>
          <p:blipFill>
            <a:blip r:embed="rId5"/>
            <a:stretch/>
          </p:blipFill>
          <p:spPr>
            <a:xfrm rot="2567400">
              <a:off x="2577240" y="5178240"/>
              <a:ext cx="12603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字方塊 9"/>
            <p:cNvSpPr/>
            <p:nvPr/>
          </p:nvSpPr>
          <p:spPr>
            <a:xfrm>
              <a:off x="6402600" y="3319200"/>
              <a:ext cx="53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文字方塊 10"/>
            <p:cNvSpPr/>
            <p:nvPr/>
          </p:nvSpPr>
          <p:spPr>
            <a:xfrm>
              <a:off x="6759000" y="2962800"/>
              <a:ext cx="712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文字方塊 11"/>
            <p:cNvSpPr/>
            <p:nvPr/>
          </p:nvSpPr>
          <p:spPr>
            <a:xfrm>
              <a:off x="6046200" y="3497400"/>
              <a:ext cx="7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ter, Peter!’ the rabbit tried to wake him u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群組 12"/>
          <p:cNvGrpSpPr/>
          <p:nvPr/>
        </p:nvGrpSpPr>
        <p:grpSpPr>
          <a:xfrm>
            <a:off x="763200" y="2286000"/>
            <a:ext cx="6666480" cy="4691880"/>
            <a:chOff x="763200" y="2286000"/>
            <a:chExt cx="6666480" cy="4691880"/>
          </a:xfrm>
        </p:grpSpPr>
        <p:pic>
          <p:nvPicPr>
            <p:cNvPr id="168" name="Picture 2" descr="C:\Users\Mike\Desktop\untitlecxxcx.bmp"/>
            <p:cNvPicPr/>
            <p:nvPr/>
          </p:nvPicPr>
          <p:blipFill>
            <a:blip r:embed="rId1"/>
            <a:stretch/>
          </p:blipFill>
          <p:spPr>
            <a:xfrm>
              <a:off x="1555920" y="2286000"/>
              <a:ext cx="5873760" cy="44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" descr="C:\Users\Mike\AppData\Local\Microsoft\Windows\Temporary Internet Files\Content.IE5\YITWUOU7\MCj02322700000[1].wmf"/>
            <p:cNvPicPr/>
            <p:nvPr/>
          </p:nvPicPr>
          <p:blipFill>
            <a:blip r:embed="rId2"/>
            <a:stretch/>
          </p:blipFill>
          <p:spPr>
            <a:xfrm rot="2567400">
              <a:off x="3016440" y="4687560"/>
              <a:ext cx="1855080" cy="19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" descr="C:\Users\Mike\AppData\Local\Microsoft\Windows\Temporary Internet Files\Content.IE5\IFU1O83H\MCj02324520000[1].wmf"/>
            <p:cNvPicPr/>
            <p:nvPr/>
          </p:nvPicPr>
          <p:blipFill>
            <a:blip r:embed="rId3"/>
            <a:stretch/>
          </p:blipFill>
          <p:spPr>
            <a:xfrm flipH="1" rot="3595200">
              <a:off x="4961520" y="4052520"/>
              <a:ext cx="1104120" cy="26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" descr="C:\Users\Mike\AppData\Local\Microsoft\Windows\Temporary Internet Files\Content.IE5\YITWUOU7\MCj02322700000[1].wmf"/>
            <p:cNvPicPr/>
            <p:nvPr/>
          </p:nvPicPr>
          <p:blipFill>
            <a:blip r:embed="rId4"/>
            <a:stretch/>
          </p:blipFill>
          <p:spPr>
            <a:xfrm rot="2567400">
              <a:off x="1166400" y="4687560"/>
              <a:ext cx="1855080" cy="19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" descr="C:\Users\Mike\AppData\Local\Microsoft\Windows\Temporary Internet Files\Content.IE5\YITWUOU7\MCj02322700000[1].wmf"/>
            <p:cNvPicPr/>
            <p:nvPr/>
          </p:nvPicPr>
          <p:blipFill>
            <a:blip r:embed="rId5"/>
            <a:stretch/>
          </p:blipFill>
          <p:spPr>
            <a:xfrm rot="2567400">
              <a:off x="2443320" y="5357520"/>
              <a:ext cx="1245960" cy="12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字方塊 8"/>
            <p:cNvSpPr/>
            <p:nvPr/>
          </p:nvSpPr>
          <p:spPr>
            <a:xfrm>
              <a:off x="6225840" y="3519360"/>
              <a:ext cx="52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文字方塊 9"/>
            <p:cNvSpPr/>
            <p:nvPr/>
          </p:nvSpPr>
          <p:spPr>
            <a:xfrm>
              <a:off x="6578280" y="3166920"/>
              <a:ext cx="70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文字方塊 10"/>
            <p:cNvSpPr/>
            <p:nvPr/>
          </p:nvSpPr>
          <p:spPr>
            <a:xfrm>
              <a:off x="5873400" y="3695400"/>
              <a:ext cx="70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橢圓形圖說文字 11"/>
            <p:cNvSpPr/>
            <p:nvPr/>
          </p:nvSpPr>
          <p:spPr>
            <a:xfrm>
              <a:off x="2349000" y="2726280"/>
              <a:ext cx="3083760" cy="176184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eter, Peter!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Sunday, Peter and his family went shopping in a shopping cen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G:\DCIM\100CANON\IMG_0036.JPG"/>
          <p:cNvPicPr/>
          <p:nvPr/>
        </p:nvPicPr>
        <p:blipFill>
          <a:blip r:embed="rId1"/>
          <a:srcRect l="0" t="11953" r="0" b="0"/>
          <a:stretch/>
        </p:blipFill>
        <p:spPr>
          <a:xfrm>
            <a:off x="428760" y="3643200"/>
            <a:ext cx="4109760" cy="271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Mike\AppData\Local\Microsoft\Windows\Temporary Internet Files\Content.IE5\EIZ0BCMA\MCj03955680000[1].wmf"/>
          <p:cNvPicPr/>
          <p:nvPr/>
        </p:nvPicPr>
        <p:blipFill>
          <a:blip r:embed="rId2"/>
          <a:stretch/>
        </p:blipFill>
        <p:spPr>
          <a:xfrm>
            <a:off x="7429680" y="3571920"/>
            <a:ext cx="1387440" cy="27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Mike\AppData\Local\Microsoft\Windows\Temporary Internet Files\Content.IE5\9VS52SBK\MCj02922520000[1].wmf"/>
          <p:cNvPicPr/>
          <p:nvPr/>
        </p:nvPicPr>
        <p:blipFill>
          <a:blip r:embed="rId3"/>
          <a:srcRect l="28470" t="0" r="20862" b="0"/>
          <a:stretch/>
        </p:blipFill>
        <p:spPr>
          <a:xfrm flipH="1">
            <a:off x="5286240" y="3571920"/>
            <a:ext cx="1214640" cy="246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Mike\AppData\Local\Microsoft\Windows\Temporary Internet Files\Content.IE5\IFU1O83H\MCj02324520000[1].wmf"/>
          <p:cNvPicPr/>
          <p:nvPr/>
        </p:nvPicPr>
        <p:blipFill>
          <a:blip r:embed="rId4"/>
          <a:stretch/>
        </p:blipFill>
        <p:spPr>
          <a:xfrm>
            <a:off x="6500880" y="3714840"/>
            <a:ext cx="104148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Mike\AppData\Local\Microsoft\Windows\Temporary Internet Files\Content.IE5\YITWUOU7\MCj01935900000[1].wmf"/>
          <p:cNvPicPr/>
          <p:nvPr/>
        </p:nvPicPr>
        <p:blipFill>
          <a:blip r:embed="rId1"/>
          <a:stretch/>
        </p:blipFill>
        <p:spPr>
          <a:xfrm>
            <a:off x="0" y="3857760"/>
            <a:ext cx="8143920" cy="216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when Peter woke up, he saw his pare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C:\Users\Mike\AppData\Local\Microsoft\Windows\Temporary Internet Files\Content.IE5\EIZ0BCMA\MCj03955680000[1].wmf"/>
          <p:cNvPicPr/>
          <p:nvPr/>
        </p:nvPicPr>
        <p:blipFill>
          <a:blip r:embed="rId2"/>
          <a:stretch/>
        </p:blipFill>
        <p:spPr>
          <a:xfrm>
            <a:off x="5786280" y="2357280"/>
            <a:ext cx="1928880" cy="385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C:\Users\Mike\AppData\Local\Microsoft\Windows\Temporary Internet Files\Content.IE5\9VS52SBK\MCj02922520000[1].wmf"/>
          <p:cNvPicPr/>
          <p:nvPr/>
        </p:nvPicPr>
        <p:blipFill>
          <a:blip r:embed="rId3"/>
          <a:srcRect l="28470" t="0" r="20862" b="0"/>
          <a:stretch/>
        </p:blipFill>
        <p:spPr>
          <a:xfrm>
            <a:off x="7715160" y="3286080"/>
            <a:ext cx="1435320" cy="275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:\Users\Mike\AppData\Local\Microsoft\Windows\Temporary Internet Files\Content.IE5\IFU1O83H\MCj02324520000[1].wmf"/>
          <p:cNvPicPr/>
          <p:nvPr/>
        </p:nvPicPr>
        <p:blipFill>
          <a:blip r:embed="rId4"/>
          <a:stretch/>
        </p:blipFill>
        <p:spPr>
          <a:xfrm rot="16200000">
            <a:off x="3106440" y="2893680"/>
            <a:ext cx="145260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o you sleep here?’ asked his mum. ‘Oh! Was it real or did I just have a dream?’ said Pe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C:\Users\Mike\AppData\Local\Microsoft\Windows\Temporary Internet Files\Content.IE5\YITWUOU7\MCj01935900000[1].wmf"/>
          <p:cNvPicPr/>
          <p:nvPr/>
        </p:nvPicPr>
        <p:blipFill>
          <a:blip r:embed="rId1"/>
          <a:stretch/>
        </p:blipFill>
        <p:spPr>
          <a:xfrm>
            <a:off x="0" y="3857760"/>
            <a:ext cx="8143920" cy="216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Users\Mike\AppData\Local\Microsoft\Windows\Temporary Internet Files\Content.IE5\EIZ0BCMA\MCj03955680000[1].wmf"/>
          <p:cNvPicPr/>
          <p:nvPr/>
        </p:nvPicPr>
        <p:blipFill>
          <a:blip r:embed="rId2"/>
          <a:stretch/>
        </p:blipFill>
        <p:spPr>
          <a:xfrm>
            <a:off x="5786280" y="2357280"/>
            <a:ext cx="1928880" cy="3851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C:\Users\Mike\AppData\Local\Microsoft\Windows\Temporary Internet Files\Content.IE5\9VS52SBK\MCj02922520000[1].wmf"/>
          <p:cNvPicPr/>
          <p:nvPr/>
        </p:nvPicPr>
        <p:blipFill>
          <a:blip r:embed="rId3"/>
          <a:srcRect l="28470" t="0" r="20862" b="0"/>
          <a:stretch/>
        </p:blipFill>
        <p:spPr>
          <a:xfrm>
            <a:off x="7715160" y="3286080"/>
            <a:ext cx="1435320" cy="275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Users\Mike\AppData\Local\Microsoft\Windows\Temporary Internet Files\Content.IE5\IFU1O83H\MCj02324520000[1].wmf"/>
          <p:cNvPicPr/>
          <p:nvPr/>
        </p:nvPicPr>
        <p:blipFill>
          <a:blip r:embed="rId4"/>
          <a:stretch/>
        </p:blipFill>
        <p:spPr>
          <a:xfrm>
            <a:off x="2214720" y="3214800"/>
            <a:ext cx="1452240" cy="3379680"/>
          </a:xfrm>
          <a:prstGeom prst="rect">
            <a:avLst/>
          </a:prstGeom>
          <a:ln w="0">
            <a:noFill/>
          </a:ln>
        </p:spPr>
      </p:pic>
      <p:sp>
        <p:nvSpPr>
          <p:cNvPr id="187" name="橢圓形圖說文字 7"/>
          <p:cNvSpPr/>
          <p:nvPr/>
        </p:nvSpPr>
        <p:spPr>
          <a:xfrm>
            <a:off x="2786040" y="2500200"/>
            <a:ext cx="1214640" cy="6429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橢圓形圖說文字 8"/>
          <p:cNvSpPr/>
          <p:nvPr/>
        </p:nvSpPr>
        <p:spPr>
          <a:xfrm flipH="1">
            <a:off x="4572000" y="2500200"/>
            <a:ext cx="1285920" cy="857520"/>
          </a:xfrm>
          <a:prstGeom prst="wedgeEllipseCallout">
            <a:avLst>
              <a:gd name="adj1" fmla="val -85759"/>
              <a:gd name="adj2" fmla="val 50134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2"/>
          <p:cNvSpPr txBox="1"/>
          <p:nvPr/>
        </p:nvSpPr>
        <p:spPr>
          <a:xfrm>
            <a:off x="1071720" y="2143080"/>
            <a:ext cx="69562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, they went to a toy shop. Peter looked at the toys and he did not know that his parents had left the sho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Users\Mike\AppData\Local\Microsoft\Windows\Temporary Internet Files\Content.IE5\9VS52SBK\MCj03443090000[1].wmf"/>
          <p:cNvPicPr/>
          <p:nvPr/>
        </p:nvPicPr>
        <p:blipFill>
          <a:blip r:embed="rId1"/>
          <a:stretch/>
        </p:blipFill>
        <p:spPr>
          <a:xfrm>
            <a:off x="500040" y="4429080"/>
            <a:ext cx="1698480" cy="16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Mike\AppData\Local\Microsoft\Windows\Temporary Internet Files\Content.IE5\EIZ0BCMA\MCj02324240000[1].wmf"/>
          <p:cNvPicPr/>
          <p:nvPr/>
        </p:nvPicPr>
        <p:blipFill>
          <a:blip r:embed="rId2"/>
          <a:stretch/>
        </p:blipFill>
        <p:spPr>
          <a:xfrm flipH="1">
            <a:off x="1857240" y="4214880"/>
            <a:ext cx="1214640" cy="185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Mike\AppData\Local\Microsoft\Windows\Temporary Internet Files\Content.IE5\EIZ0BCMA\MCj03955680000[1].wmf"/>
          <p:cNvPicPr/>
          <p:nvPr/>
        </p:nvPicPr>
        <p:blipFill>
          <a:blip r:embed="rId3"/>
          <a:stretch/>
        </p:blipFill>
        <p:spPr>
          <a:xfrm flipH="1">
            <a:off x="8000640" y="3143160"/>
            <a:ext cx="1398600" cy="27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Mike\AppData\Local\Microsoft\Windows\Temporary Internet Files\Content.IE5\9VS52SBK\MCj02922520000[1].wmf"/>
          <p:cNvPicPr/>
          <p:nvPr/>
        </p:nvPicPr>
        <p:blipFill>
          <a:blip r:embed="rId4"/>
          <a:srcRect l="28470" t="0" r="20862" b="0"/>
          <a:stretch/>
        </p:blipFill>
        <p:spPr>
          <a:xfrm flipH="1">
            <a:off x="6643440" y="3571920"/>
            <a:ext cx="12142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looking at the toys, he could not see his parents in the shop, then he went to find th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C:\Users\Mike\AppData\Local\Microsoft\Windows\Temporary Internet Files\Content.IE5\YITWUOU7\MCj02321550000[1].wmf"/>
          <p:cNvPicPr/>
          <p:nvPr/>
        </p:nvPicPr>
        <p:blipFill>
          <a:blip r:embed="rId1"/>
          <a:stretch/>
        </p:blipFill>
        <p:spPr>
          <a:xfrm>
            <a:off x="5786280" y="4143240"/>
            <a:ext cx="1317960" cy="254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Mike\AppData\Local\Microsoft\Windows\Temporary Internet Files\Content.IE5\EIZ0BCMA\MCj03835500000[1].wmf"/>
          <p:cNvPicPr/>
          <p:nvPr/>
        </p:nvPicPr>
        <p:blipFill>
          <a:blip r:embed="rId2"/>
          <a:srcRect l="0" t="0" r="46269" b="73193"/>
          <a:stretch/>
        </p:blipFill>
        <p:spPr>
          <a:xfrm rot="1941000">
            <a:off x="6325920" y="3225600"/>
            <a:ext cx="846000" cy="92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Mike\AppData\Local\Microsoft\Windows\Temporary Internet Files\Content.IE5\EIZ0BCMA\MCj03835500000[1].wmf"/>
          <p:cNvPicPr/>
          <p:nvPr/>
        </p:nvPicPr>
        <p:blipFill>
          <a:blip r:embed="rId3"/>
          <a:srcRect l="0" t="0" r="46269" b="73193"/>
          <a:stretch/>
        </p:blipFill>
        <p:spPr>
          <a:xfrm rot="201600">
            <a:off x="5742000" y="3024000"/>
            <a:ext cx="844560" cy="92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Mike\AppData\Local\Microsoft\Windows\Temporary Internet Files\Content.IE5\EIZ0BCMA\MCj03835500000[1].wmf"/>
          <p:cNvPicPr/>
          <p:nvPr/>
        </p:nvPicPr>
        <p:blipFill>
          <a:blip r:embed="rId4"/>
          <a:srcRect l="0" t="0" r="46269" b="73193"/>
          <a:stretch/>
        </p:blipFill>
        <p:spPr>
          <a:xfrm rot="19373400">
            <a:off x="5195520" y="3517920"/>
            <a:ext cx="84456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 walked in the shopping center for a long time but he could not find his pare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C:\Users\Mike\AppData\Local\Microsoft\Windows\Temporary Internet Files\Content.IE5\YITWUOU7\MCj02321550000[1].wmf"/>
          <p:cNvPicPr/>
          <p:nvPr/>
        </p:nvPicPr>
        <p:blipFill>
          <a:blip r:embed="rId1"/>
          <a:stretch/>
        </p:blipFill>
        <p:spPr>
          <a:xfrm>
            <a:off x="4286160" y="4071960"/>
            <a:ext cx="1317600" cy="254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Mike\AppData\Local\Microsoft\Windows\Temporary Internet Files\Content.IE5\EIZ0BCMA\MCj03835500000[1].wmf"/>
          <p:cNvPicPr/>
          <p:nvPr/>
        </p:nvPicPr>
        <p:blipFill>
          <a:blip r:embed="rId2"/>
          <a:srcRect l="0" t="0" r="46269" b="73193"/>
          <a:stretch/>
        </p:blipFill>
        <p:spPr>
          <a:xfrm rot="1941000">
            <a:off x="4826160" y="3153960"/>
            <a:ext cx="84600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Mike\AppData\Local\Microsoft\Windows\Temporary Internet Files\Content.IE5\EIZ0BCMA\MCj03835500000[1].wmf"/>
          <p:cNvPicPr/>
          <p:nvPr/>
        </p:nvPicPr>
        <p:blipFill>
          <a:blip r:embed="rId3"/>
          <a:srcRect l="0" t="0" r="46269" b="73193"/>
          <a:stretch/>
        </p:blipFill>
        <p:spPr>
          <a:xfrm rot="201600">
            <a:off x="4241880" y="2952360"/>
            <a:ext cx="844560" cy="9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Mike\AppData\Local\Microsoft\Windows\Temporary Internet Files\Content.IE5\EIZ0BCMA\MCj03835500000[1].wmf"/>
          <p:cNvPicPr/>
          <p:nvPr/>
        </p:nvPicPr>
        <p:blipFill>
          <a:blip r:embed="rId4"/>
          <a:srcRect l="0" t="0" r="46269" b="73193"/>
          <a:stretch/>
        </p:blipFill>
        <p:spPr>
          <a:xfrm rot="19373400">
            <a:off x="3695760" y="3446640"/>
            <a:ext cx="84456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36432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 was tired. He sat on a chair to take a re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C:\Users\Mike\AppData\Local\Microsoft\Windows\Temporary Internet Files\Content.IE5\YITWUOU7\MCj01935900000[1].wmf"/>
          <p:cNvPicPr/>
          <p:nvPr/>
        </p:nvPicPr>
        <p:blipFill>
          <a:blip r:embed="rId1"/>
          <a:stretch/>
        </p:blipFill>
        <p:spPr>
          <a:xfrm>
            <a:off x="714240" y="1785960"/>
            <a:ext cx="814392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Mike\AppData\Local\Microsoft\Windows\Temporary Internet Files\Content.IE5\9VS52SBK\MCj02320540000[1].wmf"/>
          <p:cNvPicPr/>
          <p:nvPr/>
        </p:nvPicPr>
        <p:blipFill>
          <a:blip r:embed="rId2"/>
          <a:stretch/>
        </p:blipFill>
        <p:spPr>
          <a:xfrm>
            <a:off x="3714840" y="714240"/>
            <a:ext cx="221436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4357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ddenly, his body shook strongly and he found that he was in a trai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C:\Users\Mike\Desktop\untitled.bmp"/>
          <p:cNvPicPr/>
          <p:nvPr/>
        </p:nvPicPr>
        <p:blipFill>
          <a:blip r:embed="rId1"/>
          <a:srcRect l="0" t="0" r="-1559" b="15419"/>
          <a:stretch/>
        </p:blipFill>
        <p:spPr>
          <a:xfrm>
            <a:off x="1574640" y="571680"/>
            <a:ext cx="57834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44287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e was no passenger in the trai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C:\Users\Mike\Desktop\untitleccd.bmp"/>
          <p:cNvPicPr/>
          <p:nvPr/>
        </p:nvPicPr>
        <p:blipFill>
          <a:blip r:embed="rId1"/>
          <a:stretch/>
        </p:blipFill>
        <p:spPr>
          <a:xfrm>
            <a:off x="1428840" y="285840"/>
            <a:ext cx="632916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071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the train stopped, Peter went out from the train .There was nobody at the station either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C:\Users\Mike\Desktop\zzzzzzzzz.bmp"/>
          <p:cNvPicPr/>
          <p:nvPr/>
        </p:nvPicPr>
        <p:blipFill>
          <a:blip r:embed="rId1"/>
          <a:stretch/>
        </p:blipFill>
        <p:spPr>
          <a:xfrm>
            <a:off x="1628640" y="571680"/>
            <a:ext cx="5133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7:14:53Z</dcterms:created>
  <dc:creator>Mike</dc:creator>
  <dc:description/>
  <dc:language>en-US</dc:language>
  <cp:lastModifiedBy>Mike</cp:lastModifiedBy>
  <dcterms:modified xsi:type="dcterms:W3CDTF">2009-02-05T12:49:07Z</dcterms:modified>
  <cp:revision>34</cp:revision>
  <dc:subject/>
  <dc:title>投影片 1</dc:title>
</cp:coreProperties>
</file>