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.gif" ContentType="image/gif"/>
  <Override PartName="/ppt/media/image12.gif" ContentType="image/gif"/>
  <Override PartName="/ppt/media/image13.gif" ContentType="image/gif"/>
  <Override PartName="/ppt/media/image30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28.wmf" ContentType="image/x-wmf"/>
  <Override PartName="/ppt/media/image32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4.gif" ContentType="image/gif"/>
  <Override PartName="/ppt/media/image40.wmf" ContentType="image/x-wmf"/>
  <Override PartName="/ppt/media/image8.wmf" ContentType="image/x-wmf"/>
  <Override PartName="/ppt/media/image38.wmf" ContentType="image/x-wmf"/>
  <Override PartName="/ppt/media/image42.gif" ContentType="image/gif"/>
  <Override PartName="/ppt/media/image43.jpeg" ContentType="image/jpeg"/>
  <Override PartName="/ppt/media/image7.wmf" ContentType="image/x-wmf"/>
  <Override PartName="/ppt/media/image3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41.gif" ContentType="image/gif"/>
  <Override PartName="/ppt/media/image4.png" ContentType="image/png"/>
  <Override PartName="/ppt/media/image33.wmf" ContentType="image/x-wmf"/>
  <Override PartName="/ppt/media/image3.wmf" ContentType="image/x-wmf"/>
  <Override PartName="/ppt/media/image10.wmf" ContentType="image/x-wmf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2B5-E8DA-47D2-86A1-A57BD780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B97-596C-4DB8-960F-B3F4266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DA4-8EDA-4926-9773-C4541CA3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85D-18B6-48CA-9183-2FF3264A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A463-7B85-47FF-9C1A-19F16C46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2D4D-40BF-464F-BEB0-E0A74501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7E97-56E2-4653-A36B-239490E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6883-5571-4ECB-B295-2D2D993A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2777-9B82-45A9-B9C0-ED623524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F98-0C48-424C-A4B8-D67527B8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246-6243-4B32-996B-B92177F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743-1320-4A85-A75D-0A5014C6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E81B-4661-490A-B283-8A72B04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144-1459-4BB1-AE11-7AFE9FE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78F9-E36E-4E33-893A-2BDDB7AD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D4C7-58DB-4961-9EFB-E28DCF64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E973-CAA5-4B32-97AA-B9465A53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343-30C2-477D-8597-9565471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F90-C998-4FDB-A0E4-8DA3633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A76-1745-4E6A-A421-85FDABFE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36F-4CE5-4295-826C-FE662554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3E5-3715-4D95-BF21-8F12A721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5DA-B835-419B-A078-15B4D47F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AF3-B8BD-4A9D-AB9A-E695ED11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059-9101-4867-B0D8-E6080B63D5B4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BB7-188C-4339-A1C8-DD97C9598E9F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gif"/><Relationship Id="rId3" Type="http://schemas.openxmlformats.org/officeDocument/2006/relationships/image" Target="../media/image2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2.gif"/><Relationship Id="rId9" Type="http://schemas.openxmlformats.org/officeDocument/2006/relationships/image" Target="../media/image4.png"/><Relationship Id="rId10" Type="http://schemas.openxmlformats.org/officeDocument/2006/relationships/image" Target="../media/image44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9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7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03480"/>
            <a:ext cx="914400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ei Faat Primary School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(Yau Tong)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 Kin Lok(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.6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4000" y="260280"/>
            <a:ext cx="8380440" cy="6097680"/>
            <a:chOff x="324000" y="260280"/>
            <a:chExt cx="8380440" cy="60976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24000" y="4581360"/>
              <a:ext cx="1873080" cy="17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7164360" y="260280"/>
              <a:ext cx="1540080" cy="187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2790000" y="357336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To be or not to b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Protect the earth is depending on you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！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EFFC-D6CF-4D60-9AF2-DB65F63F637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8000" y="5084640"/>
            <a:ext cx="1584360" cy="1401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492360" y="1268280"/>
            <a:ext cx="4751640" cy="4248360"/>
          </a:xfrm>
          <a:prstGeom prst="wedgeRoundRectCallout">
            <a:avLst>
              <a:gd name="adj1" fmla="val -48865"/>
              <a:gd name="adj2" fmla="val 6999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After our discussion, we foun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If we want to have the “Clean and Beautiful Surroundings” in 208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we need to go back to the past and educate our grandparents. To be more concern of protecting our beautiful Planet -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1810080" cy="1346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463400" cy="1447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732720" y="5084640"/>
            <a:ext cx="1800000" cy="1297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0" y="4437000"/>
            <a:ext cx="1008000" cy="979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971640" y="378936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1908000" y="3429000"/>
            <a:ext cx="719280" cy="698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700360" y="2852640"/>
            <a:ext cx="647640" cy="628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395280" y="2349360"/>
            <a:ext cx="974880" cy="1268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1979640" y="225360"/>
            <a:ext cx="1944720" cy="97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AC8-AEE2-4240-A61A-DEC1956E8C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5084640"/>
            <a:ext cx="1584360" cy="1401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700360" y="333360"/>
            <a:ext cx="3527280" cy="3600360"/>
          </a:xfrm>
          <a:prstGeom prst="wedgeEllipseCallout">
            <a:avLst>
              <a:gd name="adj1" fmla="val -41675"/>
              <a:gd name="adj2" fmla="val 8099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Grandpa and my frie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do you know how to save the Earth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Always remember the </a:t>
            </a:r>
            <a:r>
              <a:rPr b="0" lang="zh-TW" sz="2400" spc="-1" strike="noStrike">
                <a:solidFill>
                  <a:srgbClr val="ff0000"/>
                </a:solidFill>
                <a:latin typeface="Comic Sans MS"/>
              </a:rPr>
              <a:t>3Rs</a:t>
            </a:r>
            <a:r>
              <a:rPr b="0" lang="zh-TW" sz="2400" spc="-1" strike="noStrike">
                <a:solidFill>
                  <a:srgbClr val="ff0000"/>
                </a:solidFill>
                <a:latin typeface="Comic Sans MS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24360" y="4221000"/>
            <a:ext cx="4680000" cy="1944720"/>
          </a:xfrm>
          <a:prstGeom prst="wedgeRoundRectCallout">
            <a:avLst>
              <a:gd name="adj1" fmla="val -50305"/>
              <a:gd name="adj2" fmla="val 6779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cycle – Put cans, paper and plastic bottles in a recycling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duce – Buy only what you need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use- Before you throw things away, think whether you can use them again in another way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196200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1790640" cy="1660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1692360" cy="1573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1627200" cy="1704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6659640" y="333360"/>
            <a:ext cx="865080" cy="14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280-0FBE-4F2F-B83A-6A19B60898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2232000" cy="1900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1239840" cy="2367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35280" y="1413000"/>
            <a:ext cx="4392360" cy="39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75" y="623"/>
                </a:moveTo>
                <a:lnTo>
                  <a:pt x="29562" y="623"/>
                </a:lnTo>
                <a:lnTo>
                  <a:pt x="29562" y="-1757"/>
                </a:lnTo>
                <a:lnTo>
                  <a:pt x="-1054" y="-3151"/>
                </a:lnTo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After the stranger “Paco’ s grandson”  disappeared, we realized that he was harmless. He just wanted us to have more concern in protecting our Earth. I remembered the last thing he said,” </a:t>
            </a: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To be or not to b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Protect the earth is depending on you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！</a:t>
            </a: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50920" y="3357720"/>
            <a:ext cx="1428480" cy="1439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174780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56E-5981-4827-BBBF-804C43E0CE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503440" cy="2246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4000" y="476280"/>
            <a:ext cx="6624360" cy="4103640"/>
          </a:xfrm>
          <a:prstGeom prst="wedgeRoundRectCallout">
            <a:avLst>
              <a:gd name="adj1" fmla="val 47699"/>
              <a:gd name="adj2" fmla="val 5162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Paco and I had been talking more than two hours after the time machine was g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Afterwards, Paco has changed, he has more concern of the environment. He has never littering after th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He always join the activities about environmental protection such as planting trees, picking rubbish on the beach…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093080" y="191628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40000" y="4941720"/>
            <a:ext cx="104760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780000" y="5013360"/>
            <a:ext cx="1081080" cy="136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941-5F8B-477E-8012-A35AE1584EB6}" type="slidenum">
              <a:t>1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440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Comic Sans MS"/>
              </a:rPr>
              <a:t>To be or not to be!</a:t>
            </a:r>
            <a:br>
              <a:rPr sz="3200"/>
            </a:br>
            <a:r>
              <a:rPr b="1" lang="zh-TW" sz="3200" spc="-1" strike="noStrike">
                <a:solidFill>
                  <a:srgbClr val="ff0000"/>
                </a:solidFill>
                <a:latin typeface="Comic Sans MS"/>
              </a:rPr>
              <a:t>Protect the earth is depending on you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771640" y="198756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348000" y="5729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596360" y="2133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948360" y="2637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7812000" y="328464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755640" y="2133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476360" y="2276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6588000" y="4005360"/>
            <a:ext cx="1747800" cy="2590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755640" y="3716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826920" y="292428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0CF-D0FA-461C-9472-31FEA41CCA28}" type="slidenum">
              <a:t>14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94080" y="2817720"/>
            <a:ext cx="4006800" cy="3595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9640" y="1989000"/>
            <a:ext cx="3745080" cy="2808360"/>
          </a:xfrm>
          <a:prstGeom prst="borderCallout2">
            <a:avLst>
              <a:gd name="adj1" fmla="val 18750"/>
              <a:gd name="adj2" fmla="val -8333"/>
              <a:gd name="adj3" fmla="val 4069"/>
              <a:gd name="adj4" fmla="val 129375"/>
              <a:gd name="adj5" fmla="val 23009"/>
              <a:gd name="adj6" fmla="val 157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lo, my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name is L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, I would like to tell you a true story about our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916360" y="333360"/>
            <a:ext cx="1841400" cy="1333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796000" y="260280"/>
            <a:ext cx="1295280" cy="19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F74-4E0C-424A-9C0C-D63A0069E319}" type="slidenum">
              <a:t>2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95280" y="835200"/>
            <a:ext cx="8161200" cy="6022440"/>
            <a:chOff x="395280" y="835200"/>
            <a:chExt cx="8161200" cy="6022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545160" y="4722840"/>
              <a:ext cx="2011320" cy="21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95280" y="906480"/>
              <a:ext cx="3887640" cy="41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63640" y="835200"/>
              <a:ext cx="3816360" cy="460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031" y="536"/>
                  </a:moveTo>
                  <a:lnTo>
                    <a:pt x="25751" y="536"/>
                  </a:lnTo>
                  <a:lnTo>
                    <a:pt x="25751" y="9033"/>
                  </a:lnTo>
                  <a:lnTo>
                    <a:pt x="25275" y="17552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n’t Hurr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et me introduce my best friend, Paco fir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e is a very sporty, talkative and humorous  perso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 he is lack of the sense of environmental protection. Places he walked, there were litters on the ground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1979280" y="4435560"/>
              <a:ext cx="1440000" cy="14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7D1-54C1-4B9F-AF1D-572E23B797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34545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months ago, Paco and I  went to Lautau Island for fishing and cycl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76360" y="620640"/>
            <a:ext cx="7392960" cy="5969160"/>
            <a:chOff x="1476360" y="620640"/>
            <a:chExt cx="7392960" cy="596916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00720" y="620640"/>
              <a:ext cx="2874960" cy="206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1476360" y="4724280"/>
              <a:ext cx="7392960" cy="1865520"/>
              <a:chOff x="1476360" y="4724280"/>
              <a:chExt cx="7392960" cy="1865520"/>
            </a:xfrm>
          </p:grpSpPr>
          <p:pic>
            <p:nvPicPr>
              <p:cNvPr id="1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6360" y="4724280"/>
                <a:ext cx="1994040" cy="18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5157720"/>
                <a:ext cx="1562040" cy="142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280" y="5229360"/>
                <a:ext cx="1487520" cy="135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27640" y="5300640"/>
                <a:ext cx="1417680" cy="12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6360" y="5407200"/>
                <a:ext cx="1272960" cy="115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>
              <a:off x="5003640" y="3141720"/>
              <a:ext cx="3456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41B-1A2C-40C7-88C8-A4D241B03DAD}" type="slidenum">
              <a:t>4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5920"/>
            <a:ext cx="5327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were walking along the beach, something strange happened, we could not see anything in distan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 bright light was in front of us. Almost immediately, we saw a shadow under a tree. We felt scared but we wanted to see what the object wa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68360" y="4508640"/>
            <a:ext cx="2159280" cy="206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508720" y="3284640"/>
            <a:ext cx="3132000" cy="3276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516720" y="1628640"/>
            <a:ext cx="1512720" cy="14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FED-B3D9-4180-B639-A58008D0F19A}" type="slidenum">
              <a:t>5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238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333360"/>
            <a:ext cx="4680000" cy="5184720"/>
          </a:xfrm>
          <a:prstGeom prst="cloudCallout">
            <a:avLst>
              <a:gd name="adj1" fmla="val -43759"/>
              <a:gd name="adj2" fmla="val 6665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lo! Little boys, Who is Paco Chan? My name is Marco. I am  a scientist from 20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am the grandson of Pa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305080" cy="2039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35280" y="692280"/>
            <a:ext cx="1293840" cy="13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26E-1965-48B2-AC9D-27ECD357597E}" type="slidenum">
              <a:t>6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732400" cy="32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743280" cy="2711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835280" y="4405320"/>
            <a:ext cx="2016000" cy="178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780000" y="260280"/>
            <a:ext cx="4464000" cy="3456000"/>
          </a:xfrm>
          <a:prstGeom prst="wedgeEllipseCallout">
            <a:avLst>
              <a:gd name="adj1" fmla="val -42425"/>
              <a:gd name="adj2" fmla="val 7126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! What a beautiful World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 “Clean and Green” 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770-8F03-437E-ABEF-A1BDB8798E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3640" y="5084640"/>
            <a:ext cx="1584360" cy="1401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765000"/>
            <a:ext cx="5762520" cy="5040360"/>
          </a:xfrm>
          <a:prstGeom prst="cloudCallout">
            <a:avLst>
              <a:gd name="adj1" fmla="val -47546"/>
              <a:gd name="adj2" fmla="val 5106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208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the serious pollution around the Earth, we lived in a town that was filled with rubbish. Furthermore, we have to wear breathing mask daily because the air was badly poll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819080" cy="1814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451640" y="501336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484360" y="26028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042920" y="2492280"/>
            <a:ext cx="1373400" cy="1484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1290600" cy="132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724360" y="5229360"/>
            <a:ext cx="1368720" cy="1355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4140360" y="260280"/>
            <a:ext cx="107928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892-D1F6-4CEB-AD40-C40331D1FBAE}" type="slidenum">
              <a:t>8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659640" y="4508640"/>
            <a:ext cx="1873080" cy="1987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908000" y="5084640"/>
            <a:ext cx="1584360" cy="1401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03640" y="260280"/>
            <a:ext cx="3816360" cy="3960720"/>
          </a:xfrm>
          <a:prstGeom prst="wedgeRoundRectCallout">
            <a:avLst>
              <a:gd name="adj1" fmla="val -43055"/>
              <a:gd name="adj2" fmla="val 10699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uckily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invented the time machine three years ago. I am the scientist of the “Save the Earth”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1293840" cy="136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24000" y="37162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718-219C-4623-B960-04089DA8FBC2}" type="slidenum">
              <a:t>9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06:56Z</dcterms:created>
  <dc:creator>user</dc:creator>
  <dc:description/>
  <dc:language>en-US</dc:language>
  <cp:lastModifiedBy>user</cp:lastModifiedBy>
  <dcterms:modified xsi:type="dcterms:W3CDTF">2009-02-05T16:12:31Z</dcterms:modified>
  <cp:revision>32</cp:revision>
  <dc:subject/>
  <dc:title>Kei Faat Primary School (Yau Tong)</dc:title>
</cp:coreProperties>
</file>