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AC6-2328-435E-AB11-A33B4396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BDE-ACA0-4B06-825E-4DDEDADD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2EA-B43B-46FC-8A75-77C90F9C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6D4-ED6B-47EE-94D9-CD492CAA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0C9-3060-43E7-98BC-F784A2D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646-1BA1-4985-A811-330ED1CA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909-2FF3-4A1C-928D-08C805B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1A2-87E4-452D-9B9B-110C24B2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FA3-E8F0-4E1D-AC6D-F8F51CFB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5B0-E729-4B4B-924D-C5A5071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4E7-2D86-4824-8349-BC5408F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4B6-A0D1-4A52-AA37-312508DE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E9A-EDCB-4055-A72B-A44E4745144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NuxI5JXBsAU5u1ygt./SIG=1511s296g/EXP=1234179566/**http%3A/hk.search.yahoo.com/search/images%3Fview=detailed%26p=winnie%2Bthe%2Bpooh%26b=57%26pstart=1%26curr_index=2%26imgsz=%26imgc=%26ei=UTF-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w45JIBoAGk21ygt./SIG=1507r9ak8/EXP=1234179349/**http%3A/hk.search.yahoo.com/search/images%3Fview=detailed%26p=winnie%2Bthe%2Bpooh%26b=9%26pstart=1%26curr_index=4%26imgsz=%26imgc=%26ei=UTF-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w45JIBoAIU21ygt./SIG=151br1vtq/EXP=1234179349/**http%3A/hk.search.yahoo.com/search/images%3Fview=detailed%26p=winnie%2Bthe%2Bpooh%26b=17%26pstart=1%26curr_index=1%26imgsz=%26imgc=%26ei=UTF-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w45JIBoAGU21ygt./SIG=1502s4h7m/EXP=1234179349/**http%3A/hk.search.yahoo.com/search/images%3Fview=detailed%26p=winnie%2Bthe%2Bpooh%26b=9%26pstart=1%26curr_index=3%26imgsz=%26imgc=%26ei=UTF-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w45JIBoAFE21ygt./SIG=1503p1mni/EXP=1234179349/**http%3A/hk.search.yahoo.com/search/images%3Fview=detailed%26p=winnie%2Bthe%2Bpooh%26b=1%26pstart=1%26curr_index=8%26imgsz=%26imgc=%26ei=UTF-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gqxI5J3VgA.ly1ygt./SIG=1513untgb/EXP=1234179498/**http%3A/hk.search.yahoo.com/search/images%3Fview=detailed%26p=winnie%2Bthe%2Bpooh%26b=25%26pstart=1%26curr_index=4%26imgsz=%26imgc=%26ei=UTF-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w45JIBoAHk21ygt./SIG=150vgv3be/EXP=1234179349/**http%3A/hk.search.yahoo.com/search/images%3Fview=detailed%26p=winnie%2Bthe%2Bpooh%26b=9%26pstart=1%26curr_index=6%26imgsz=%26imgc=%26ei=UTF-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gqxI5J3VgAAV21ygt./SIG=151l83m1m/EXP=1234179498/**http%3A/hk.search.yahoo.com/search/images%3Fview=detailed%26p=winnie%2Bthe%2Bpooh%26b=25%26pstart=1%26curr_index=7%26imgsz=%26imgc=%26ei=UTF-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w45JIBoAE021ygt./SIG=150pmnff3/EXP=1234179349/**http%3A/hk.search.yahoo.com/search/images%3Fview=detailed%26p=winnie%2Bthe%2Bpooh%26b=1%26pstart=1%26curr_index=7%26imgsz=%26imgc=%26ei=UTF-8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27280" y="5805360"/>
            <a:ext cx="26845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ed by Marco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6000" y="4581000"/>
            <a:ext cx="6491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</a:rPr>
              <a:t>Happy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TW" sz="3600" spc="-1" strike="noStrike">
                <a:solidFill>
                  <a:srgbClr val="333399"/>
                </a:solidFill>
                <a:latin typeface="Arial"/>
              </a:rPr>
              <a:t>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grd_pho1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692280"/>
            <a:ext cx="4751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652640"/>
            <a:ext cx="822960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 love each other. We share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’re happy all the 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d_pho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268280"/>
            <a:ext cx="3673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5800" y="28630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d_pho4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4560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4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I’m Kelvin. I live in happy forest.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favourite food is yummy honey.</a:t>
            </a:r>
            <a:r>
              <a:rPr b="0" lang="zh-TW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grd_pho1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836640"/>
            <a:ext cx="25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869000"/>
            <a:ext cx="8002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 have a lot of friends. They’re kind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d_pho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07920"/>
            <a:ext cx="38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We have a new neighbour. He’s a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kangaroo. He likes to jump jump jump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d_pho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19700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We go for a picnic on Sundays. We share our favourite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d_pho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692280"/>
            <a:ext cx="2495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 like sailing along the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d_pho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557360"/>
            <a:ext cx="374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t night,  we like to count the stars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d_pho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30720" y="836640"/>
            <a:ext cx="2393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I like to fly kites with peggy the pig on wind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rd_pho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970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486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I like to take a walk with peggy the 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on sunn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d_pho17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279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46:41Z</dcterms:created>
  <dc:creator>Hugo</dc:creator>
  <dc:description/>
  <dc:language>en-US</dc:language>
  <cp:lastModifiedBy>Hugo</cp:lastModifiedBy>
  <dcterms:modified xsi:type="dcterms:W3CDTF">2009-02-08T13:08:45Z</dcterms:modified>
  <cp:revision>2</cp:revision>
  <dc:subject/>
  <dc:title>Created by Marco Sin</dc:title>
</cp:coreProperties>
</file>