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gif" ContentType="image/gif"/>
  <Override PartName="/ppt/media/image10.png" ContentType="image/png"/>
  <Override PartName="/ppt/media/image18.gif" ContentType="image/gif"/>
  <Override PartName="/ppt/media/image3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D5C-1E3B-4A31-913C-9F4C7D47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BE3-1B4A-41D3-88D1-1137832A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12A-4413-411C-86E9-D729FED6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B4E-03D9-4412-B339-7E179ED4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AC8-C1E3-414B-A555-1DD98064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771-6406-4E9D-A1AD-422389A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7B6A-B119-4F63-B462-6DB38127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8EC-F45A-4D81-812F-EF04B7CC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8EEB-E18B-4235-8004-06707ED5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3C03-217A-40C4-AEBE-D53C392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3E5A-08B7-45CC-9CBA-8CB517F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592-44FC-44E0-8220-EB96AEB5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1EA-B798-4314-916D-431E253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592-E540-4B05-8B2F-C060FC8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843-693F-42CB-9CC2-111DFD3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48E-C3A3-4248-B00F-F9E424BD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880-62FE-4263-B688-ED4C9326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E0D-3E3C-47E8-AB62-12AFBC1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BBF-4A15-4CAA-BFB0-908D0A7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A21-FB77-472D-9FF3-07E3BFF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43E-35F8-4941-B2C3-3CC7BC98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B74-EF44-499A-9608-03BAC01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EFD-CC6F-4886-BB7F-CBCD0ACF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D81-FB72-4D43-9CA4-B56D882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D1F9-161C-47B2-B3CB-093E285E8A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39E-5783-460E-876D-DE2A5E9653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Sham Tsun Hang, Br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62320" y="236232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amazing ba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4529160"/>
            <a:ext cx="230832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A08-C9D1-413A-A611-FC3C603E83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was not a good king. He had laws that people couldn’t possibly obey, like giving Jack 50 dollars a day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67080" y="4267080"/>
            <a:ext cx="135432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9CC-1C8A-4572-B25F-2E2B92775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day, the fairy said to Jack, ‘I can’t bear you any longer. You keep killing people!  I will turn you back into a poor man.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124080" y="3782880"/>
            <a:ext cx="3657600" cy="20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462-231B-4B5D-B108-20B2D13D2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Jack could even said, ‘NO! I WON’T DO IT AGAIN!’, the fairy had already turned him back into a poor man. Jack cri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03880" y="4221000"/>
            <a:ext cx="2163600" cy="21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32E-6B5A-4843-A8B8-17920CBE51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ast, the villagers told the real king how bad Jack was, so he got kill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18040" y="3695760"/>
            <a:ext cx="214488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B46-81D5-48E0-8567-8BDFC7502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14600" y="2133720"/>
            <a:ext cx="38862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C8C-9851-4C50-9472-7A4905EA3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day, a man called Jack was walking by the pavement when he suddenly noticed a handbag on the fl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00760" y="4119480"/>
            <a:ext cx="1606680" cy="19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09E-FFB2-4F7A-A9B0-E3C397231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kneeled down and picked it up. He said ,’Oh! A handbag! Maybe I can sell it and earn some money! ‘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81920" y="479124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B16-B689-4771-9BD6-734CA4EA1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ment he finished the sentence, a fairy appeared. She said, ‘Yes, master. What’s your order?’ Jack replied, ’Money! Ten thousand!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3740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AF5-6882-4402-A8A0-9CA834A1B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airy said, ‘Yes, master!’ And she really brought back ten thousand!’ Jack was very excited! He can be rich! He can be a king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3298680" cy="192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30D-F7F6-411A-88C9-2346BFEFFC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, Jack said, ’Fairy, if you can make ten thousand dollars, can you make me the richest man in the whole world too?’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589040" cy="183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1814400" cy="17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705720" y="4343400"/>
            <a:ext cx="190980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A47-6374-45F7-B887-70614075C6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airy answered, ‘Sure, master! It will be my pleasure!’ Suddenly, Jack found himself in a costly suit, with an expensive briefcase and c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154476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3840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8DC-3010-42A2-9628-4B537F572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brought the briefcase home. He makes at least ten wishes every day! One day, he asked the fairy, ‘Can you make me a king?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97180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91E-D52D-4AE0-8053-2AA4D6767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airy hesitated, then she said, ‘Okay, master.’ Then, surprisingly, Jack saw that he had a golden crown, a golden cane and a cap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76520" y="5303880"/>
            <a:ext cx="1955520" cy="1554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3760" y="5197320"/>
            <a:ext cx="2216160" cy="1311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670800" y="4632480"/>
            <a:ext cx="1625400" cy="18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952-9DC4-4F31-8974-1FE736EC0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8:36:35Z</dcterms:created>
  <dc:creator> Bruce</dc:creator>
  <dc:description/>
  <dc:language>en-US</dc:language>
  <cp:lastModifiedBy>Eralda</cp:lastModifiedBy>
  <dcterms:modified xsi:type="dcterms:W3CDTF">2009-02-06T10:39:08Z</dcterms:modified>
  <cp:revision>10</cp:revision>
  <dc:subject/>
  <dc:title>The </dc:title>
</cp:coreProperties>
</file>